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4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78" name="PlaceHolder 2"/>
          <p:cNvSpPr>
            <a:spLocks noGrp="1"/>
          </p:cNvSpPr>
          <p:nvPr>
            <p:ph type="dt" idx="10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4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81" name="PlaceHolder 5"/>
          <p:cNvSpPr>
            <a:spLocks noGrp="1"/>
          </p:cNvSpPr>
          <p:nvPr>
            <p:ph type="ftr" idx="11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82" name="PlaceHolder 6"/>
          <p:cNvSpPr>
            <a:spLocks noGrp="1"/>
          </p:cNvSpPr>
          <p:nvPr>
            <p:ph type="sldNum" idx="11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266FB-D0B3-40C9-B55D-023443CDE5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685800" y="1143000"/>
            <a:ext cx="5486400" cy="3086280"/>
          </a:xfrm>
          <a:prstGeom prst="rect">
            <a:avLst/>
          </a:prstGeom>
          <a:ln w="0">
            <a:noFill/>
          </a:ln>
        </p:spPr>
      </p:sp>
      <p:sp>
        <p:nvSpPr>
          <p:cNvPr id="15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D0BA-932F-4D8F-AB61-1F81458C12B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685800" y="1143000"/>
            <a:ext cx="5486400" cy="3086280"/>
          </a:xfrm>
          <a:prstGeom prst="rect">
            <a:avLst/>
          </a:prstGeom>
          <a:ln w="0">
            <a:noFill/>
          </a:ln>
        </p:spPr>
      </p:sp>
      <p:sp>
        <p:nvSpPr>
          <p:cNvPr id="15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08C3B-93DF-449B-8116-ACFA304CC37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685800" y="1143000"/>
            <a:ext cx="5486400" cy="3086280"/>
          </a:xfrm>
          <a:prstGeom prst="rect">
            <a:avLst/>
          </a:prstGeom>
          <a:ln w="0">
            <a:noFill/>
          </a:ln>
        </p:spPr>
      </p:sp>
      <p:sp>
        <p:nvSpPr>
          <p:cNvPr id="15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9C5C5-EC6D-4CFA-8CCA-17789296FF7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685800" y="1143000"/>
            <a:ext cx="5486400" cy="3086280"/>
          </a:xfrm>
          <a:prstGeom prst="rect">
            <a:avLst/>
          </a:prstGeom>
          <a:ln w="0">
            <a:noFill/>
          </a:ln>
        </p:spPr>
      </p:sp>
      <p:sp>
        <p:nvSpPr>
          <p:cNvPr id="15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4E43A-FDCB-48FE-9ECA-3D5765381DB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685800" y="1143000"/>
            <a:ext cx="5486400" cy="3086280"/>
          </a:xfrm>
          <a:prstGeom prst="rect">
            <a:avLst/>
          </a:prstGeom>
          <a:ln w="0">
            <a:noFill/>
          </a:ln>
        </p:spPr>
      </p:sp>
      <p:sp>
        <p:nvSpPr>
          <p:cNvPr id="15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415CE-FABA-44C8-ADC9-45EF645FF70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685800" y="1143000"/>
            <a:ext cx="5486400" cy="3086280"/>
          </a:xfrm>
          <a:prstGeom prst="rect">
            <a:avLst/>
          </a:prstGeom>
          <a:ln w="0">
            <a:noFill/>
          </a:ln>
        </p:spPr>
      </p:sp>
      <p:sp>
        <p:nvSpPr>
          <p:cNvPr id="15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F152-3948-4300-BDF7-FBF031D98A7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91C4E-1AEB-4EE5-933B-7FC568F74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27FF6-1AC0-4CF3-883F-104CCCEEB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C2222B-8ADC-4E47-8BDC-50BA116286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48919F-F837-4536-A27D-970F4BC0A2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2EF45A-8B72-4703-AF22-33C07FCB1D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F265BB-1D1F-4BEF-B362-BC81F76DB5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80315A-0313-48AA-9D02-4BE98EBD64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ACD96F-868D-44F3-B2EC-C3F091A4B0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161592-7271-42C9-B3A6-129E69F592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B099B4-10FE-4C03-893C-94100BB5DD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0E5D61-A907-4B1E-AB79-8226C27707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55BB6EB-C991-4172-9454-3193838ECC1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D6966-18EF-4332-A49D-92128F72E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F695FE7-641B-4049-A84E-1B16C570F92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F96FCC3-98AC-4C1E-88FF-1FAC838A17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70812F-B814-4933-85EB-D4164535EF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C1E8AF-40E1-47E5-9E97-63A86B4AE8B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F020D08-BDAB-48E4-84DB-DB6D67650B9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9635CF-E5CD-46BD-A898-AFC955C7A5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4DE579-2719-4404-9461-ACE32A1B59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70FC60-A4D0-4662-9B01-49C5EA9CF3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9988BA-28FC-4EB1-9CA2-E8232CECB6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831865F-0136-481A-BBCC-9804F0D8C1A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60BF9-D961-431E-BC03-A26633D57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BFA8B67-DAD3-4775-9792-B6B794F8E3D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476F0E9-375A-4BE9-B67C-4F978449732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C1B9F7-AC06-4A00-BFA4-0E2B9C4D60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FFBF33-F6EE-479F-B09A-F02C1A894F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F7BF59-CB74-434B-9E80-4C1898582D2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B22D00-83D7-4276-B64C-429DCE2558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590646-A89B-4951-BD5E-38DEF0AE970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A8DA8E-4480-4BDB-9A2B-9F82250339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5CD6B1-20B1-4765-8B67-9ABB48E278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B35A2F-D11D-4A60-B621-C552EE4B62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255FC5-9456-4367-8B4B-296EB1E652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D1420B1-2C64-4FEE-A372-483F255E83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231B443-CAA6-4842-B09E-B2BD475178E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75B3480-7B5D-44BB-B1F7-F094D1A494B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AC56225-6240-4D95-B777-7081E39D5E2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2056AE-9A8E-40CF-8C23-A57F5C71E4D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3DB0861-9328-4857-A793-9E48DAEA13A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EA4057A-331D-4BFF-A1C0-B676A96144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0A912E-696F-467C-975A-A5B6175291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F165543-243A-4A6E-BA4D-68392BB055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72F1EE6-876B-454C-9863-A25507BC74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8AA42-CAFF-472E-942A-509881EC9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34CF93-88AF-4E4D-9E15-B90C98551C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549A28-CDA5-4FB0-AE47-5546EA3987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A0B0ADF-F40B-4CF8-962B-0AD91893D46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9574730-EC59-4696-8691-BD790FD4B6D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B705AB7-BB20-417B-8978-87C05028B72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5FB31B8-C529-42EA-A99E-0E519657CD8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83115EE-2DEE-4330-BE9E-989FAF6ECFA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B5ACFC5-A755-4443-A354-1BA5542C4BF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9D5DECC-91B5-4F56-947C-F711AC81695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22CD281-B655-4705-B12C-A140E1AD9D7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13E80-6E01-4686-B68D-6F7ADF73A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C07B2BE-BCBB-4E7C-BA49-621DD2022CE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97C1D24-2DF3-458F-BA6F-47B135B787C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A5F3F5E-1B69-42DA-89FA-234B1516C2A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F10BF2E-5D34-4B79-A58E-B7A83F0B6F6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A5A4F45-A716-46F2-BE8A-6BC06E842EB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06A3ADD-4476-4074-9264-2A0E7823A0D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DDA8B14-A90A-46B4-8995-E0EFA02ABBF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662713B-85FB-4775-9B8C-CDDDA66DA02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B4941AE-83C3-44D9-89B8-518E62753A5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6241789-BE30-4BBB-9DC5-C959C5A8C71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B5F09-8075-409F-B61E-C66349E27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4D48075-8516-4974-92E2-7C8677C2B7B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EB85D42-74BF-48E6-9A6F-CEFA9222E8B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E30C8A9-5FA5-4AA9-83D3-42F947FD2EC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E939A7D-3502-4741-AE24-3109DB61750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49F9E3F-057F-4FFC-9419-F90CF341988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EBF2259-2DDD-4246-A9DE-C6DDA26D34A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AD1B3D4-11A2-4BCE-B230-E9B16A9643D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576A982-D397-4DC0-9BB7-1B6E6592E00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2373E94-829E-4A7C-928C-D692715C8B8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85412D8-AC7D-482D-8FF0-A4469F160F1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89AEE-91E9-4DDE-B6F2-BE003E480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9CC6779-1618-4FAC-B682-FC6AB75468D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35DB25E-68B5-45FC-B304-2B738530336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E556B2F-6E45-4F74-A57A-071DECE55AA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EC5D3B7-CEC1-455E-84F6-7CD6DB29F3A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1CA2684-DC33-490C-8369-0733ADFD052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BDA0A4B-0980-459C-9078-63424E86F7A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85353AF-2799-4777-B232-3BB5D47C246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00482D1-2F27-418D-A691-06E61BAB143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74905AA-ADF8-4D06-B114-2B8861B1C95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AA8904B-E030-4C17-BEA3-D68D8D07BC9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1AFD1-0B84-46E7-8845-26A5CDA75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8686834-3345-42AB-B9F4-2F53CE17CDF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E924A59-E5A7-4678-931C-6BB16510EFE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206A770-C732-4D58-BAF0-5CA3D3222B4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3F95B7D-ED64-4461-8F40-E926E999076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85E7070-F20E-4F1C-BA14-A21D589ED23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91BD936-6432-4A25-AF47-F42EF619F4F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E2EC37F-9C35-4507-B427-CB7ED208B5C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3022782-F65E-4D09-8092-5C5F910CC9D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0FAB563-E102-45A2-93F6-B526099B022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654571E-4D28-4DA2-97BB-1BF5615BFD3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D22BE-808C-41D6-8E2E-A9B08A254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1E0954B-7F0C-4801-B461-7BC78BFACA2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1C77C3C-98F1-4D16-997D-293227F415A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4FC381C-D1C5-4AE3-A4D6-ED5C333FDC6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76104C4-7BE2-479A-B4DD-26933DE74E8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56992D3-DB14-4CCB-94DE-9CF4405B892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72E8BAC-CE23-43E0-BB35-15635CA65E0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DA7EF32-0078-4121-A80B-3B162608224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8058903-5EA6-4FD4-9416-6A44203B68E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8A8FE4B-E64A-4F91-851F-004BA02F503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332A671-64A4-46A4-9EE3-2383713E463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F8496-283F-471A-BC2F-89A68196A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A813D-7844-409D-A0F0-BAD423B27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BCA57CD-A2D4-440F-A7E7-6E7B540C5B7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20779D9-48F0-4128-84EB-A4169F7B815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F78B5DC-E221-4596-A7F3-4CBA954F374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FE3916D-DC4E-4749-830A-77203CFB574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19428D1-438B-43C7-AD2E-EC8FB3A0DE8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EEA8E48-048B-4DAA-829D-7ED2F1892F0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1C10B78-6C52-4D4E-9D3C-E4F0201AC6C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5A6DEB5-A591-4B8A-B939-1FD6DF59CAA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872FC26-B1C8-453A-A988-5A64284BDC8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344D29F-2841-4E17-AC42-A40F7FDCA26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CE5A4-4ED7-44FB-9E16-0A46A90F7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A250616-BF25-4094-96A8-F09D9534F4E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4FAF28B-7307-402B-8E9C-DFB7B945BF2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90EAB35-3110-4EB6-8208-9819A265E80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6CA2BBE-DAB0-42BF-8BF1-0DF1AFB7AFC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B5E2A60-A891-43EC-A9B8-FE70C9E9EDC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C1B5E68-EC4E-45DD-AB40-E36A16451AC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716FA3A-9705-4EE4-873C-5DDFFB7F48F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DB0D3CD-1244-47AE-8894-34645F593B5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70C34EA-D5B5-412D-8E03-7CB74ECF534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4D7E653-76CA-4920-9CAD-B183CD416E4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BB868-764D-4AB6-B305-5CCFACAA2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7937629-C128-40DD-82A0-E8421BA0E62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3BDFEC2-4775-4D8D-9371-B00E4A5C5C3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25382FB-E06F-4F12-8F0E-9439E2373C4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A5BE5C4-12B1-44C9-8902-4D911D4E52E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DBE93A5-19EA-458E-971B-BE6B12F2A74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8A5AAD9-679F-427F-BA12-C12958401C1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EDDD989-1675-41E3-8D8F-64F0236908E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328D1D0-583B-4109-9692-A8EF69E8380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4779659-C516-42E7-A4C6-FAE296A6FCF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6585FE1-81ED-4F81-9FC6-6C4CBE382A0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99040F-B587-434F-AA84-BFB11A975B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6043786-4C69-40CE-8558-A627567A788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BED9595-F758-4AFB-8239-F83C3C4CDB2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438DDAA-EE8A-4AB5-BA99-A347C079347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D610076-0A1E-4B51-9399-8C1F1FB0354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93C251A-0721-4E34-8075-57359D1C920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74CC059-DDC0-44E0-8DDF-2B06CEF5287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92B7408-3BFF-40E5-A1B5-12E9C963312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0394391-5B77-42A2-B80C-14A8696E82E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A546FB2-3868-40EF-982B-286E1C7252A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B224FAD-3B94-4D89-911A-DD6671CEA87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51FE40-B049-4DF4-AF5A-0CD2975B2C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EE71E71-4564-47EA-8F55-86DC73C1421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57D69A0-CB71-44EE-A9EB-95B18D643AC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4E42112-CE86-4EA3-A6E9-EC7E4A4B343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439B408-54E1-4212-9702-DBABE835D4C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79D7E93-3B9D-459A-83D0-A70D181C473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90F1432-AF07-460A-8FA4-4B8834DA383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BADD6FE-C260-4380-A452-C6B7A74EF7B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AC7D5A3-90B9-47C7-A6D8-4B7649D79D7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DF7B5A5-B219-44E0-8C77-756A13B17B7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7F2B85A-D5C9-4B63-A7AC-D47A40BE563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D13145-AF6F-44B6-A0F3-DE8E94E6B2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E3F2796-ADCD-4CC9-AA98-A30298C85FA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BBF65D3-883F-463B-A015-C1A2C30CF0D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D6ECC0B-DED2-49D6-AF65-0DD99EA9026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6A0DA85-57D9-48CB-87EA-C9C234B63719}"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9BFB441-BEB8-4876-A492-899F12C2CED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17A9A68-0AE9-466D-9092-FD6C7FE3814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4590F8F-0D52-47F7-A1CA-48ED95CEF2D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42E7460-0198-4447-9316-D70746BFF20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2E7A708-C7E3-439B-8117-24D30249B05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0ACC04B-E325-4018-BB9D-6F17E105F8C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7F68B5-B469-4395-B240-4D8F0CE069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225F35E-34B6-4CA0-BF4B-6F3F5A555B7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4C4BB19-96AF-4C2E-A555-E79F02235F0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6C5F1E0-4E2C-46C5-AD9A-F4072DEE8F9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5127DB6-C1A7-41DA-BB36-7BEBA78381B9}"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2DA06E1-1DD2-412D-A480-848A56846E2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E7B376F-348D-4F38-A9ED-ADED1B366F5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3F7F83A-0A20-4A1C-8C74-1855B1425D6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F4C212A-745D-4595-BD4D-3134B6E5E49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A2CAAEC-8443-4B00-956D-AB9EEEA61D5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161B66D-C458-46BE-BAD3-95AB1FF30B9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C5581E-1C45-49B0-A2E0-928B0C4842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5DEFBA9-465D-410C-AF41-C9F2C77AC3B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756B7AD-BF6E-44C6-AEC0-002A1593B33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ACE539F-AEF0-440D-846A-5FAE4C40B7E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2809CCF-5FA8-4FD4-A6FD-7323AA8A918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A5D9239-0679-4776-880D-9B66D4D25B1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258221B6-2D85-43B3-988B-413C900D12B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5EE77936-9095-4A4A-A01C-8FF0842C1AA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7C473F92-842A-4686-8FCA-EDF727CA48CF}"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78005DF-D4B8-498A-A648-30D3625B1ED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1D4338D-0277-4B93-B69D-0F36FDB576C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9A3748-DE61-4AA6-8418-032CA735B7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C4D1FF3-22D8-4C74-BD23-58441806489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03E86D3-7642-4DAA-B537-B10BD0C3BFA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12EB17F-97AD-405E-80C3-3BBB08920E8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0EB19C6-59AC-42B3-A91B-F7115C88B98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C844DF1-B095-4FF5-83BB-6C48BA92683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164E6D7-5C2C-4FE2-B0B3-38879DDDC28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831011D-3DC6-48C3-9985-0DD8185E57D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B5267E7-9F34-437E-A12F-400BEBF60D55}"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3436993-1DE0-4AF8-9DF8-2FB20180E2F7}"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AC930C2D-1513-408A-AF81-AA4C15BC6AB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D12CF0-6128-49EC-BA52-72D93A8875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FB70B47-FC48-48FA-A538-97488CCA121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38D28D0-DAAD-400F-8E65-A3569497B1E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0CE3DDF-E6A2-487B-9528-4E25DFB2089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B51A42E-3C9F-4DE4-8AA4-6F619D4D106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C06C82F-FB35-4C0B-B445-D4A1F2BB6D3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7DDE229-4D01-4399-8F85-FF237E272D2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DFBA93C-223D-4E9F-9DB4-8979181123C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35A4771-84F0-4A4C-89EF-9B1956DB2E0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629A9E1-87A9-4C6A-943E-534AD602EBE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3F0D21DB-B726-450D-98F4-017D47F63BAA}"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8F6B3-2608-4922-9281-E0491D805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7F701C-0BAC-4378-9C59-525FEA3532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2DD79A85-80AE-4CE2-BE9C-0F48844F804E}"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DA5975B8-29EB-4A0C-9E35-E0292FF23498}"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49C51BB-1D2E-4497-BC83-A91211A0598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EF79861-1491-429E-80B3-79D77EA7C64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D83B1C2-DD48-4092-B9D5-78A4D62A8DE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726E322-10BC-47C8-B624-5AA069FDFCF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852ABAB-DA6F-452F-AC76-F6228F9EAA6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D654A5A-B622-41B6-9C00-E0C2D791EDC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8DDC3CC-23D3-42B8-BDDC-05FC6B1EEBB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E4C1197-806F-4EB8-9EBF-1E5806825D5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201787-1A81-41F6-ADCE-9FDCAA35AF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6DA8308-A5B8-4C71-93E7-EFCD50BAE6E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0F5E58B7-805A-43E7-8AF8-5FB379D7FB9B}"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08591803-18BC-4EEF-AC9F-9B3DC614566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0CB08AE2-70B3-4EC1-B973-B8775D491654}"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98D07D6-607E-4EEF-AA54-E61CE266C17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20FDF8E1-C703-4A6B-9A2C-CEBB9D31785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3077C8A-08ED-439F-AB8F-47BCAE3C4D8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B4AB4F4-2DCA-4908-9B1E-22D3204558F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616D87E-5C37-4584-B771-32CE4915334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9008877-8BBB-42BD-A8BC-98BA6913ABD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622DAE-3F89-4830-B6BC-956E88F730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0F57D0A-77FC-4E3D-B36B-5E80F266E74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7436A76-79F7-4429-B0BF-3AA6970A45E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F70DE51-3293-44FB-95BE-0A200874D7C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61D6B575-3C5F-48F8-953E-13E70DEB0683}"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C175EBF8-46C4-4CBB-A610-82569CAF8398}"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44808A2C-33E9-4AA6-8CCB-F0CDC008459F}"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8CD0DDF-ED82-49DB-B641-10105A4666F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E4B6878-E0C5-47E3-8F8B-A50B495387E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47E2F2C-3C39-416D-AEDA-02CAA2B0EA6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E6D067B-7B66-452D-BBF4-A52E628ED02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AB823C-A5E6-490B-849F-0526A68D27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DEE77FE-961F-4386-A7AF-38B64C12E78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E7E602E-7BCE-41BE-A865-40F385459CA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7C4156F-1381-4952-B766-B30EB871A50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F07E27D-9BFA-4107-BAEF-0FCAAFDAA88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BF8177B-2E77-40F9-A6FE-4477A98F441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B4F93AA8-74E9-4E8F-B640-51C55A2D26A3}"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3976AAD1-AE77-40FA-ADDD-AB244E12B775}"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9DA8C447-2852-471C-AB49-62E7FDA3CCD4}"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275FF57-8125-45E1-A3DD-A7308D7B6C7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6C883F56-C72A-40F2-9D8B-8EA34AB0C14F}"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BB0801-32BE-4569-8122-CA7D1B082C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BAE7806-1660-4D1F-96D7-32173486F47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EBC1FF10-696F-4D84-8457-5573A147537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772F88A-B3D5-40FA-BB98-9B9D9284469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108B09D-808E-46A8-89CE-1D5201E1EAC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B0B4309-DC92-409E-96BD-247BFBF3D09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9C875C2-5602-4F56-95DA-82C1B098FC4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50A9E93-4316-4E0F-A726-631F127A6E1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92060CB1-81BB-4F61-8811-300AA73B1CCA}"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EF8D394C-BB8D-4945-BC9C-970CB5CB8261}"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3FEFCA98-027D-4515-89E3-CD0C2C7F85A2}"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3175E3-5EB5-43A2-ADD6-EAB34E38B9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C811F13B-6A17-400B-B8DF-A6C9D24701AF}"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799E71D8-D88B-43A7-9468-BBE7A4A95E0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891EB3B-3F2F-4F8B-951E-0CD75DDADB4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F94465C-696B-4DCF-8913-DC2EA727C012}"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D324C543-3A95-4C32-ACF5-D6B5FEC0050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3D155E5-F5AD-4126-A0AB-CECA1E08D33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A47D6F1-03CB-4A66-857D-A698AA1C202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A6D929A-5451-4528-B163-416F21E546A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D2E2FA1-6CE8-4E43-9790-B40D702BFE7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07F399DD-6B3D-4689-AA24-AB6362F849B7}"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8428E3-3718-4FEB-AF20-89FEB8120D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0B1F6272-FCCF-4F1C-B3CB-982B202B3034}"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311344D2-C668-426A-8BB1-825D7A667870}"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851926B-3965-46B3-8085-6D2F0C2BB04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29C102C3-F537-4AE3-B49F-74BC5FE9FFAA}"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97CEF5BB-CB0F-4041-9128-885925CF03E5}"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A6DE800-2581-4F28-9CAB-C6C8A920B0D6}"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2C730C62-BC1B-4AF2-AEDF-A04BE681FFFD}"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AF72008-F0D6-444C-A004-6FB63BA2379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FA367AA-EFF7-4911-BF44-F3914E1FE79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61EB72D-D41D-4C1C-A030-36D05272898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A1D9E1-6539-45CB-87E8-E49FA76836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475DC9A-C212-4098-9C0C-36BBC85FD3E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FD26D2C3-2A0C-45F1-AB72-596343BC9C0B}"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754AF967-75DD-480F-A3D5-395E4C170DC1}"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6DE8BFDB-8F65-4970-B2EB-53C82ECC592C}"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72B9C202-67E6-4023-A035-4633A7853AFA}"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8DF604AB-A1F6-4F5D-A280-F427E4E481E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AE4E8D16-DAB5-4435-AC32-808B4941E4ED}"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592C91F2-C747-4C6D-A6F8-74D00DFD05A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727E044C-8525-49BB-9E60-2944DF2B04F3}"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28E6140-E71C-46E6-997E-CF92F95286B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3239E4-A20B-42A3-B2EA-5E7CFDD3B8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443D85E-4BD2-42FB-A9D7-23DCCCEE4EB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79E49BA-F9BE-4025-B3A3-BB23FE01258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33254839-5676-4C47-9E39-A2BBE53650E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AA3E3189-9170-4E93-8D6B-5C815E20D46C}"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ADF48E56-17AA-4064-B42C-41880E8457E5}"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A282F037-19D5-41D0-8395-331C4E8C7BCF}"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100B0A6C-BD41-4371-9BB3-7645804DE5A2}"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C1CD8E4E-B4F3-4688-AC6F-1D84B15BABBB}"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19647273-2490-40FE-8C49-CDF2F6B2736D}"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821DD02-89E8-4290-BB9B-BFD28DEDB8B4}"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FD6BCC-D2FA-4C9F-87EA-2CBF34C5F1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7334EEE3-EEC2-4AD4-83BA-60846A99D6A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8FF43D8-A262-46C5-AD0F-8D9D19B46E0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97D30B5-4CDE-4DA8-97BD-B8F9B532C49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B28D26F-4587-48B8-A8CA-46A1DEE25F7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385DC362-43A7-42A0-AAC0-DC09B4B079DC}"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957C1046-E0C8-402B-8189-A7629265326D}"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F118FBA5-E27B-4C71-BD79-7BD3E14CBD42}"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5F174E94-5D69-4C69-B110-4244288C9E82}"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E7BA7677-6C60-4D24-8465-E009C4B7064B}"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6C9D463-3F2B-4AC2-889F-F71A106C283F}"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902B1-2A2A-4FA3-A72D-0D3C8788E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BC179D-1112-46E3-B065-BA2F61D3DF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8A24824-95DB-4A76-B4EA-F9EDF049EE7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567BE94C-2B91-42AC-B089-13B6EC01928A}"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7D29232B-352B-464B-99FF-FC099A2D1F0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1F84C1C-4665-4783-959E-7A3721FBDCD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AA6CBC0-370A-4F77-B3DD-90B42595D92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5071A51-B04E-4F61-B8A4-4F5A9A5BAFF0}"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C94C3B9-FE65-40C8-B043-C1E6BDA857D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48437429-C24F-40CC-AB6A-ACA0328269C9}"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5FFE37F1-9E2D-4D3E-A372-6EC31F13CFEF}"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1DFCA702-92D6-49DA-97CF-A68D5CA6C675}"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EC8336-CFEA-4094-B556-51111CFB10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FD4BB80-C84C-4DA5-AA30-8570F286367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198BBF1C-6D59-4694-AAEB-3B1F83D5E64B}"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8E707331-857E-47E1-893F-C7D7A4BCC0FC}"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C8180FF-F019-475B-8700-3D2E3BF03252}"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CC019BE-7DE0-450F-8CF9-8B57B5D59EB8}"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73AB568-8EC4-4CDB-9C53-4CB41347E10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1989308E-A3A9-4824-B5A5-F80169B81E5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3BA7B85-E310-4025-AEF2-2B2A88EAE68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CDE2B4BE-C5B2-4F6D-A31F-0FF0374C704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CE3CB17D-4E2A-448F-B5DD-1CA3B4733732}"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986475-ED83-4367-B5B8-525B61762F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AFB057DD-1734-42A1-940B-57A75A0C3BB2}"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CB0EB512-3396-425E-8245-BD901BA59A5C}"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D26EAD7-F049-4C40-A69D-D9D2BCF23486}"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1DAF3B2-9092-45F6-8F67-10C1BC98A508}"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6C8B06E9-48EC-4B95-AC8F-02ACB44836C3}"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4BC27882-CF18-4B12-A393-30F62B2167CF}"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24F6956A-7995-434A-AEC1-2D09261D320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F2EFD36-BA34-48CD-B406-31BAE417F27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D22BE4E-B91D-4E4D-A839-302BD7E789B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A3737EE-3F38-43E9-8980-FE4CC939EE8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DF4336-A6BE-43DC-94A2-94F8060FFA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9AA87C0F-48B1-4AAE-9E1F-B9944D82B032}"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172A4887-6A87-435A-ABCC-12C65102371B}"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23805012-A297-44BD-92D1-33EA232BA793}"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67B22D-2904-44E5-BA4B-66A16BE8A1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2F7AAD-BD28-44EE-B92B-C1CF500C13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C84A64-8EC6-41D4-B8D5-246AE3435A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3F956B-FBF1-4FE1-B0F9-EC9E17C1CA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47F76F-326E-41F9-B884-07DB8742EF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3B824D-3DA7-442F-B56A-F994139779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FF5D7-664C-44EA-8024-FFE9B34E1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FE0E10-211D-4E15-A5D6-C89EE12CCF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641830-DDF7-4ACE-8447-61D66999AE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E6BACF-7AE7-4F2F-91F2-80E36F2923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B4C955-99B8-487B-A4B9-1F2075D860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D4B7CD-155F-45A8-AA26-EE43A7E0A0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22F6DA-0F9A-4774-B0EE-FFE7CEFF88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202516-B0F3-4DFF-B7A2-D84646D860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79A570-62DE-4F2F-80FD-A303CCA7C2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1640C8-12FA-43E4-85B9-A4D21F0189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792042-ED7D-44A3-AEE9-6B9C1D5635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13C2B-55FF-4331-B408-E3D146375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C9FBC8-05EB-48DB-8810-F1F481EFF2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4780B8-4848-410A-AA06-E72295A073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79EDA1-A013-4D8B-A89D-86670AED7E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858A1E-FBC4-41A3-B1AF-13F53DA99C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252657-E89A-4CB3-A0DE-CB3A056074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89F34B-8F15-4E52-89F7-85236C97CD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3DD28B-6439-454E-8E03-12DF2D5220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A0CBFC-6163-40C2-A965-302850C266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AAC3B5-EEC2-486A-891A-A057164E9A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599051-E329-442E-9AFC-86642716D3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90B14-87C2-42BE-A72D-6A0963E66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46964C-4E2D-48DA-8FB9-00CCA47F4D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2412B2-8632-4815-A462-5C76E5F03F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1EFF7F-64D5-4E47-BAA1-134CF40A0F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71B954-A81A-4051-B519-4151357B26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3FF867-B56A-4B58-A00A-2523516B99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CE7196-1EB6-4A67-ABE9-498A72446D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74AD22-A0A6-4CAB-9773-D5C44C534F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E5F558-E8F0-427B-939D-2A4619DEAE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DE9BB5-60BD-42AA-BB92-74CD6A70E3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BD4D52-64A0-48F0-A7F8-EAEF003F59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A1302-C7D3-4CB6-87F3-A33680A8F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7E90BD-49BB-4FCC-8720-E3B7FBAD4A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5E8DC0-A600-427F-A3E8-74C98D6F36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811565-3F91-415B-95FB-F0D63C9158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95FFE1-48C4-4D9D-B685-B248A9C6C6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7BBC95-D47E-4DCC-AB16-E9A09E4679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C191F1-7309-4E6F-99A9-20705E8CC3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31A9CA-719E-47ED-9719-03B3AD3887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2797C2-CD9D-46A2-9A62-66F40C5188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796FCC-4AE6-4CBA-836A-C4463A7D91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EA8FA0-7291-499B-9747-C75D716408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93456-1F3C-4F3A-A501-1E28FE6BC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A633CD-D9A5-4372-BC72-65BB75F7A3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366BAA-63BA-4CBC-B7A0-194873B666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D8BC58-DCD1-4594-84E7-AD7C4E9544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3E2C90-B7BE-42D2-9142-18B2D6E6A8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D939D1-FA4F-4623-9136-5861B152C8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810324-E435-46BE-AF60-806893646B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082CEE-5914-4FE4-8291-E479572A38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057FE4-56A5-4B14-AC73-072AAAD4D5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2915CA-55AE-4A76-930D-C52569A8CF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176FC7-8E83-46A9-910D-78173CE3A63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ECE2-F13A-475F-A4DD-2D9EF1AF137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72" name="PlaceHolder 4"/>
          <p:cNvSpPr>
            <a:spLocks noGrp="1"/>
          </p:cNvSpPr>
          <p:nvPr>
            <p:ph type="ftr" idx="2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42EFC-7565-4EAB-9BA5-0753B451095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13" name="PlaceHolder 4"/>
          <p:cNvSpPr>
            <a:spLocks noGrp="1"/>
          </p:cNvSpPr>
          <p:nvPr>
            <p:ph type="ftr" idx="3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5B280-091D-41C0-9CD7-05E89B22905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54" name="PlaceHolder 4"/>
          <p:cNvSpPr>
            <a:spLocks noGrp="1"/>
          </p:cNvSpPr>
          <p:nvPr>
            <p:ph type="ftr" idx="3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4D6BC-B336-42F0-9764-8EEFE5902A8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95" name="PlaceHolder 4"/>
          <p:cNvSpPr>
            <a:spLocks noGrp="1"/>
          </p:cNvSpPr>
          <p:nvPr>
            <p:ph type="ftr" idx="3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6533F-4DC1-41A8-8DE6-E21190C41E7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36" name="PlaceHolder 4"/>
          <p:cNvSpPr>
            <a:spLocks noGrp="1"/>
          </p:cNvSpPr>
          <p:nvPr>
            <p:ph type="ftr" idx="4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B668-BFAC-426F-8C94-91E12626434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77" name="PlaceHolder 4"/>
          <p:cNvSpPr>
            <a:spLocks noGrp="1"/>
          </p:cNvSpPr>
          <p:nvPr>
            <p:ph type="ftr" idx="4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05DE2-6F7D-4A05-ADF3-AF613B505F3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18" name="PlaceHolder 4"/>
          <p:cNvSpPr>
            <a:spLocks noGrp="1"/>
          </p:cNvSpPr>
          <p:nvPr>
            <p:ph type="ftr" idx="4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F0D7-A029-494B-85D5-450ADFCE4D9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59" name="PlaceHolder 4"/>
          <p:cNvSpPr>
            <a:spLocks noGrp="1"/>
          </p:cNvSpPr>
          <p:nvPr>
            <p:ph type="ftr" idx="5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D7A64-D7B7-44B3-B813-6FB7D641A48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00" name="PlaceHolder 4"/>
          <p:cNvSpPr>
            <a:spLocks noGrp="1"/>
          </p:cNvSpPr>
          <p:nvPr>
            <p:ph type="ftr" idx="5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2D35D-9BCF-4811-9669-8714AE72185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41" name="PlaceHolder 4"/>
          <p:cNvSpPr>
            <a:spLocks noGrp="1"/>
          </p:cNvSpPr>
          <p:nvPr>
            <p:ph type="ftr" idx="5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5AC90-ED5F-4FC8-9B11-C8AC2F16AC3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0C0E-C1C3-43EC-8E4D-AA060130D0A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82" name="PlaceHolder 4"/>
          <p:cNvSpPr>
            <a:spLocks noGrp="1"/>
          </p:cNvSpPr>
          <p:nvPr>
            <p:ph type="ftr" idx="5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84D4-FF0C-4357-9012-8FE33963AE1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23" name="PlaceHolder 4"/>
          <p:cNvSpPr>
            <a:spLocks noGrp="1"/>
          </p:cNvSpPr>
          <p:nvPr>
            <p:ph type="ftr" idx="6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CBA3A-10A9-4B01-8D66-AF80ECAC082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64" name="PlaceHolder 4"/>
          <p:cNvSpPr>
            <a:spLocks noGrp="1"/>
          </p:cNvSpPr>
          <p:nvPr>
            <p:ph type="ftr" idx="6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3D4C0-A647-4802-9A16-56937746F98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05" name="PlaceHolder 4"/>
          <p:cNvSpPr>
            <a:spLocks noGrp="1"/>
          </p:cNvSpPr>
          <p:nvPr>
            <p:ph type="ftr" idx="6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0F564-4A45-41F2-8C7D-3536C7FF17E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46" name="PlaceHolder 4"/>
          <p:cNvSpPr>
            <a:spLocks noGrp="1"/>
          </p:cNvSpPr>
          <p:nvPr>
            <p:ph type="ftr" idx="7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PlaceHolder 5"/>
          <p:cNvSpPr>
            <a:spLocks noGrp="1"/>
          </p:cNvSpPr>
          <p:nvPr>
            <p:ph type="sldNum" idx="7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5DFCB-0757-4E19-8352-EE722D43673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87" name="PlaceHolder 4"/>
          <p:cNvSpPr>
            <a:spLocks noGrp="1"/>
          </p:cNvSpPr>
          <p:nvPr>
            <p:ph type="ftr" idx="7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PlaceHolder 5"/>
          <p:cNvSpPr>
            <a:spLocks noGrp="1"/>
          </p:cNvSpPr>
          <p:nvPr>
            <p:ph type="sldNum" idx="7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EBA94-A9AD-48B6-8C2D-D99528F7E6B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7" name="PlaceHolder 3"/>
          <p:cNvSpPr>
            <a:spLocks noGrp="1"/>
          </p:cNvSpPr>
          <p:nvPr>
            <p:ph type="dt" idx="7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28" name="PlaceHolder 4"/>
          <p:cNvSpPr>
            <a:spLocks noGrp="1"/>
          </p:cNvSpPr>
          <p:nvPr>
            <p:ph type="ftr" idx="7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PlaceHolder 5"/>
          <p:cNvSpPr>
            <a:spLocks noGrp="1"/>
          </p:cNvSpPr>
          <p:nvPr>
            <p:ph type="sldNum" idx="7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603F-A204-4B1B-8062-58DC873BDD5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68" name="PlaceHolder 3"/>
          <p:cNvSpPr>
            <a:spLocks noGrp="1"/>
          </p:cNvSpPr>
          <p:nvPr>
            <p:ph type="dt" idx="7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69" name="PlaceHolder 4"/>
          <p:cNvSpPr>
            <a:spLocks noGrp="1"/>
          </p:cNvSpPr>
          <p:nvPr>
            <p:ph type="ftr" idx="8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PlaceHolder 5"/>
          <p:cNvSpPr>
            <a:spLocks noGrp="1"/>
          </p:cNvSpPr>
          <p:nvPr>
            <p:ph type="sldNum" idx="8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A747F-A204-4471-B6AE-D6A92EA36FE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0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09" name="PlaceHolder 3"/>
          <p:cNvSpPr>
            <a:spLocks noGrp="1"/>
          </p:cNvSpPr>
          <p:nvPr>
            <p:ph type="dt" idx="8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10" name="PlaceHolder 4"/>
          <p:cNvSpPr>
            <a:spLocks noGrp="1"/>
          </p:cNvSpPr>
          <p:nvPr>
            <p:ph type="ftr" idx="8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PlaceHolder 5"/>
          <p:cNvSpPr>
            <a:spLocks noGrp="1"/>
          </p:cNvSpPr>
          <p:nvPr>
            <p:ph type="sldNum" idx="8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025F-5F4E-4A66-BE0A-431D77D0545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0" name="PlaceHolder 3"/>
          <p:cNvSpPr>
            <a:spLocks noGrp="1"/>
          </p:cNvSpPr>
          <p:nvPr>
            <p:ph type="dt" idx="8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51" name="PlaceHolder 4"/>
          <p:cNvSpPr>
            <a:spLocks noGrp="1"/>
          </p:cNvSpPr>
          <p:nvPr>
            <p:ph type="ftr" idx="8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PlaceHolder 5"/>
          <p:cNvSpPr>
            <a:spLocks noGrp="1"/>
          </p:cNvSpPr>
          <p:nvPr>
            <p:ph type="sldNum" idx="8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AC78D-1CC9-4162-BA33-F9F7CFA5211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5" name="PlaceHolder 4"/>
          <p:cNvSpPr>
            <a:spLocks noGrp="1"/>
          </p:cNvSpPr>
          <p:nvPr>
            <p:ph type="ftr" idx="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A391D-976A-47E9-83CB-1C69E0C6E062}"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1" name="PlaceHolder 3"/>
          <p:cNvSpPr>
            <a:spLocks noGrp="1"/>
          </p:cNvSpPr>
          <p:nvPr>
            <p:ph type="dt" idx="8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92" name="PlaceHolder 4"/>
          <p:cNvSpPr>
            <a:spLocks noGrp="1"/>
          </p:cNvSpPr>
          <p:nvPr>
            <p:ph type="ftr" idx="8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PlaceHolder 5"/>
          <p:cNvSpPr>
            <a:spLocks noGrp="1"/>
          </p:cNvSpPr>
          <p:nvPr>
            <p:ph type="sldNum" idx="9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94E26-9056-48BF-9A9B-2B669E88C71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2" name="PlaceHolder 3"/>
          <p:cNvSpPr>
            <a:spLocks noGrp="1"/>
          </p:cNvSpPr>
          <p:nvPr>
            <p:ph type="dt" idx="9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33" name="PlaceHolder 4"/>
          <p:cNvSpPr>
            <a:spLocks noGrp="1"/>
          </p:cNvSpPr>
          <p:nvPr>
            <p:ph type="ftr" idx="9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4" name="PlaceHolder 5"/>
          <p:cNvSpPr>
            <a:spLocks noGrp="1"/>
          </p:cNvSpPr>
          <p:nvPr>
            <p:ph type="sldNum" idx="9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D92A3-1F47-484C-AAA8-315804E0DB3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3" name="PlaceHolder 3"/>
          <p:cNvSpPr>
            <a:spLocks noGrp="1"/>
          </p:cNvSpPr>
          <p:nvPr>
            <p:ph type="dt" idx="9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74" name="PlaceHolder 4"/>
          <p:cNvSpPr>
            <a:spLocks noGrp="1"/>
          </p:cNvSpPr>
          <p:nvPr>
            <p:ph type="ftr" idx="9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5" name="PlaceHolder 5"/>
          <p:cNvSpPr>
            <a:spLocks noGrp="1"/>
          </p:cNvSpPr>
          <p:nvPr>
            <p:ph type="sldNum" idx="9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7A533-5828-4377-8E12-02B8380775D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15" name="PlaceHolder 4"/>
          <p:cNvSpPr>
            <a:spLocks noGrp="1"/>
          </p:cNvSpPr>
          <p:nvPr>
            <p:ph type="ftr" idx="9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PlaceHolder 5"/>
          <p:cNvSpPr>
            <a:spLocks noGrp="1"/>
          </p:cNvSpPr>
          <p:nvPr>
            <p:ph type="sldNum" idx="9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6F850-CD3B-4F3E-99A8-9A4508655D0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5" name="PlaceHolder 3"/>
          <p:cNvSpPr>
            <a:spLocks noGrp="1"/>
          </p:cNvSpPr>
          <p:nvPr>
            <p:ph type="dt" idx="10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56" name="PlaceHolder 4"/>
          <p:cNvSpPr>
            <a:spLocks noGrp="1"/>
          </p:cNvSpPr>
          <p:nvPr>
            <p:ph type="ftr" idx="10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PlaceHolder 5"/>
          <p:cNvSpPr>
            <a:spLocks noGrp="1"/>
          </p:cNvSpPr>
          <p:nvPr>
            <p:ph type="sldNum" idx="10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2DEA0-819D-4867-9A26-8B3203D0592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6" name="PlaceHolder 3"/>
          <p:cNvSpPr>
            <a:spLocks noGrp="1"/>
          </p:cNvSpPr>
          <p:nvPr>
            <p:ph type="dt" idx="10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97" name="PlaceHolder 4"/>
          <p:cNvSpPr>
            <a:spLocks noGrp="1"/>
          </p:cNvSpPr>
          <p:nvPr>
            <p:ph type="ftr" idx="10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8" name="PlaceHolder 5"/>
          <p:cNvSpPr>
            <a:spLocks noGrp="1"/>
          </p:cNvSpPr>
          <p:nvPr>
            <p:ph type="sldNum" idx="10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385AD-183D-4F0C-95BA-FB45B35B189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7" name="PlaceHolder 3"/>
          <p:cNvSpPr>
            <a:spLocks noGrp="1"/>
          </p:cNvSpPr>
          <p:nvPr>
            <p:ph type="dt" idx="10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438" name="PlaceHolder 4"/>
          <p:cNvSpPr>
            <a:spLocks noGrp="1"/>
          </p:cNvSpPr>
          <p:nvPr>
            <p:ph type="ftr" idx="10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9" name="PlaceHolder 5"/>
          <p:cNvSpPr>
            <a:spLocks noGrp="1"/>
          </p:cNvSpPr>
          <p:nvPr>
            <p:ph type="sldNum" idx="10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36BE3-DB0D-4E09-B566-BAA923F6EE1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6" name="PlaceHolder 4"/>
          <p:cNvSpPr>
            <a:spLocks noGrp="1"/>
          </p:cNvSpPr>
          <p:nvPr>
            <p:ph type="ftr" idx="1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AAC06-930F-4606-A5AE-917D95E7BB2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67" name="PlaceHolder 4"/>
          <p:cNvSpPr>
            <a:spLocks noGrp="1"/>
          </p:cNvSpPr>
          <p:nvPr>
            <p:ph type="ftr" idx="1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4075E-23FA-4ADC-9B51-EAFA872F10C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08" name="PlaceHolder 4"/>
          <p:cNvSpPr>
            <a:spLocks noGrp="1"/>
          </p:cNvSpPr>
          <p:nvPr>
            <p:ph type="ftr" idx="1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62017-FECE-4923-8DAB-DB6FD42CA48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49" name="PlaceHolder 4"/>
          <p:cNvSpPr>
            <a:spLocks noGrp="1"/>
          </p:cNvSpPr>
          <p:nvPr>
            <p:ph type="ftr" idx="2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E6F1C-B910-427C-AEEE-49347D5386C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90" name="PlaceHolder 4"/>
          <p:cNvSpPr>
            <a:spLocks noGrp="1"/>
          </p:cNvSpPr>
          <p:nvPr>
            <p:ph type="ftr" idx="2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F5E09-D0B6-4B02-8AEE-E76F27957AE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31" name="PlaceHolder 4"/>
          <p:cNvSpPr>
            <a:spLocks noGrp="1"/>
          </p:cNvSpPr>
          <p:nvPr>
            <p:ph type="ftr" idx="2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D799D-83EC-426A-A112-B34210A4185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9.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0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2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hyperlink" Target="https://en.wikipedia.org/wiki/Ombudsman" TargetMode="External"/><Relationship Id="rId4" Type="http://schemas.openxmlformats.org/officeDocument/2006/relationships/slideLayout" Target="../slideLayouts/slideLayout3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395280" y="1184400"/>
            <a:ext cx="11366640" cy="373536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NHSGGC </a:t>
            </a: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Complaints Handling Procedure</a:t>
            </a:r>
            <a:endParaRPr b="0" lang="en-US" sz="60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libri"/>
              </a:rPr>
              <a:t>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507" name="TextBox 1"/>
          <p:cNvSpPr/>
          <p:nvPr/>
        </p:nvSpPr>
        <p:spPr>
          <a:xfrm>
            <a:off x="2098800" y="620640"/>
            <a:ext cx="789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Learning from Complaints</a:t>
            </a:r>
            <a:r>
              <a:rPr b="0" lang="en-GB" sz="2800" spc="-1" strike="noStrike">
                <a:solidFill>
                  <a:srgbClr val="ffffff"/>
                </a:solidFill>
                <a:latin typeface="Calibri"/>
              </a:rPr>
              <a:t> </a:t>
            </a:r>
            <a:endParaRPr b="0" lang="en-US" sz="2800" spc="-1" strike="noStrike">
              <a:solidFill>
                <a:srgbClr val="000000"/>
              </a:solidFill>
              <a:latin typeface="Calibri"/>
            </a:endParaRPr>
          </a:p>
        </p:txBody>
      </p:sp>
      <p:pic>
        <p:nvPicPr>
          <p:cNvPr id="1508" name="Picture 3" descr="A close up of a piece of paper&#10;&#10;Description automatically generated"/>
          <p:cNvPicPr/>
          <p:nvPr/>
        </p:nvPicPr>
        <p:blipFill>
          <a:blip r:embed="rId1"/>
          <a:srcRect l="0" t="0" r="-1157" b="-6968"/>
          <a:stretch/>
        </p:blipFill>
        <p:spPr>
          <a:xfrm>
            <a:off x="1549440" y="2179800"/>
            <a:ext cx="8740800" cy="444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4" name="Rectangle 1"/>
          <p:cNvSpPr/>
          <p:nvPr/>
        </p:nvSpPr>
        <p:spPr>
          <a:xfrm>
            <a:off x="644400" y="2092320"/>
            <a:ext cx="10887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5" name="TextBox 2"/>
          <p:cNvSpPr/>
          <p:nvPr/>
        </p:nvSpPr>
        <p:spPr>
          <a:xfrm>
            <a:off x="653040" y="49356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The Process</a:t>
            </a:r>
            <a:endParaRPr b="0" lang="en-US" sz="3600" spc="-1" strike="noStrike">
              <a:solidFill>
                <a:srgbClr val="000000"/>
              </a:solidFill>
              <a:latin typeface="Calibri"/>
            </a:endParaRPr>
          </a:p>
        </p:txBody>
      </p:sp>
      <p:pic>
        <p:nvPicPr>
          <p:cNvPr id="1486" name="Picture 1" descr=""/>
          <p:cNvPicPr/>
          <p:nvPr/>
        </p:nvPicPr>
        <p:blipFill>
          <a:blip r:embed="rId1"/>
          <a:stretch/>
        </p:blipFill>
        <p:spPr>
          <a:xfrm>
            <a:off x="1596960" y="1319040"/>
            <a:ext cx="8489880" cy="478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7" name="TextBox 3"/>
          <p:cNvSpPr/>
          <p:nvPr/>
        </p:nvSpPr>
        <p:spPr>
          <a:xfrm>
            <a:off x="334800" y="415800"/>
            <a:ext cx="10983960" cy="56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tage 1</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arly resolution complaints that require little to no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 Waiting Time Complaints, Smoking &amp; Car Parking</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can be shared via:</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Verbally, direct to complainant, via service</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mail, direct to complainant, via Complaints Department</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8" name="Rectangle 1" descr=""/>
          <p:cNvPicPr/>
          <p:nvPr/>
        </p:nvPicPr>
        <p:blipFill>
          <a:blip r:embed="rId1"/>
          <a:stretch/>
        </p:blipFill>
        <p:spPr>
          <a:xfrm>
            <a:off x="414360" y="682560"/>
            <a:ext cx="11539440" cy="898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9" name="TextBox 2"/>
          <p:cNvSpPr/>
          <p:nvPr/>
        </p:nvSpPr>
        <p:spPr>
          <a:xfrm>
            <a:off x="369360" y="487440"/>
            <a:ext cx="11745000" cy="557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Stage 2</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age 2 complaints are complex and require an in-depth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concerns about clinical care, disagreement with treatment pla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nd complaints that have been escalated from Stage 1.</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to Stage 2 complaints are via the service Directo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olution should be reached within 20 working day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195120" y="5364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
        <p:nvSpPr>
          <p:cNvPr id="1491" name="AutoShape 2"/>
          <p:cNvSpPr/>
          <p:nvPr/>
        </p:nvSpPr>
        <p:spPr>
          <a:xfrm>
            <a:off x="15876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2" name="Rectangle 1"/>
          <p:cNvSpPr/>
          <p:nvPr/>
        </p:nvSpPr>
        <p:spPr>
          <a:xfrm>
            <a:off x="297000" y="1258920"/>
            <a:ext cx="6780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an imperfect response to the fact that we can never turn back the clock when things have gone wrong. We just have to deal with what is, and deal with it as well as we can.</a:t>
            </a:r>
            <a:endParaRPr b="0" lang="en-US" sz="2400" spc="-1" strike="noStrike">
              <a:solidFill>
                <a:srgbClr val="000000"/>
              </a:solidFill>
              <a:latin typeface="Calibri"/>
            </a:endParaRPr>
          </a:p>
        </p:txBody>
      </p:sp>
      <p:sp>
        <p:nvSpPr>
          <p:cNvPr id="1493" name="Rectangle 8"/>
          <p:cNvSpPr/>
          <p:nvPr/>
        </p:nvSpPr>
        <p:spPr>
          <a:xfrm>
            <a:off x="297000" y="3117960"/>
            <a:ext cx="692928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partly a statement of regret, and partly an acceptance of responsibility for things that have gone wrong. A </a:t>
            </a:r>
            <a:r>
              <a:rPr b="0" i="1" lang="en-GB" sz="2400" spc="-1" strike="noStrike">
                <a:solidFill>
                  <a:srgbClr val="ffffff"/>
                </a:solidFill>
                <a:latin typeface="Calibri"/>
              </a:rPr>
              <a:t>sincere</a:t>
            </a:r>
            <a:r>
              <a:rPr b="0" lang="en-GB" sz="2400" spc="-1" strike="noStrike">
                <a:solidFill>
                  <a:srgbClr val="ffffff"/>
                </a:solidFill>
                <a:latin typeface="Calibri"/>
              </a:rPr>
              <a:t> partial apology (“I’m truly sorry that this has happened”) is a statement of sorrow or regre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2400" spc="-1" strike="noStrike">
                <a:solidFill>
                  <a:srgbClr val="ffffff"/>
                </a:solidFill>
                <a:latin typeface="Calibri"/>
              </a:rPr>
              <a:t>A </a:t>
            </a:r>
            <a:r>
              <a:rPr b="0" i="1" lang="en-GB" sz="2400" spc="-1" strike="noStrike">
                <a:solidFill>
                  <a:srgbClr val="ffffff"/>
                </a:solidFill>
                <a:latin typeface="Calibri"/>
              </a:rPr>
              <a:t>full</a:t>
            </a:r>
            <a:r>
              <a:rPr b="0" lang="en-GB" sz="2400" spc="-1" strike="noStrike">
                <a:solidFill>
                  <a:srgbClr val="ffffff"/>
                </a:solidFill>
                <a:latin typeface="Calibri"/>
              </a:rPr>
              <a:t> apology, by contrast, will include an explanation of what happened and acceptance of responsibility.</a:t>
            </a:r>
            <a:endParaRPr b="0" lang="en-US" sz="2400" spc="-1" strike="noStrike">
              <a:solidFill>
                <a:srgbClr val="000000"/>
              </a:solidFill>
              <a:latin typeface="Calibri"/>
            </a:endParaRPr>
          </a:p>
        </p:txBody>
      </p:sp>
      <p:pic>
        <p:nvPicPr>
          <p:cNvPr id="1494" name="Picture 1" descr=""/>
          <p:cNvPicPr/>
          <p:nvPr/>
        </p:nvPicPr>
        <p:blipFill>
          <a:blip r:embed="rId1"/>
          <a:stretch/>
        </p:blipFill>
        <p:spPr>
          <a:xfrm>
            <a:off x="7589880" y="1027080"/>
            <a:ext cx="424980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pic>
        <p:nvPicPr>
          <p:cNvPr id="1495" name="Picture 3" descr=""/>
          <p:cNvPicPr/>
          <p:nvPr/>
        </p:nvPicPr>
        <p:blipFill>
          <a:blip r:embed="rId1"/>
          <a:stretch/>
        </p:blipFill>
        <p:spPr>
          <a:xfrm>
            <a:off x="549360" y="1590840"/>
            <a:ext cx="4728960" cy="4255920"/>
          </a:xfrm>
          <a:prstGeom prst="rect">
            <a:avLst/>
          </a:prstGeom>
          <a:ln w="0">
            <a:noFill/>
          </a:ln>
        </p:spPr>
      </p:pic>
      <p:sp>
        <p:nvSpPr>
          <p:cNvPr id="1496" name="Rectangle 3"/>
          <p:cNvSpPr/>
          <p:nvPr/>
        </p:nvSpPr>
        <p:spPr>
          <a:xfrm>
            <a:off x="5514840" y="2089080"/>
            <a:ext cx="6199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im your apology at what actually happened. An apology is for a specific wrong or injury. It will miss its mark if the apologiser and the apologisee disagree about what went wrong.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is means understanding what happened </a:t>
            </a:r>
            <a:r>
              <a:rPr b="0" i="1" lang="en-GB" sz="2400" spc="-1" strike="noStrike">
                <a:solidFill>
                  <a:srgbClr val="ffffff"/>
                </a:solidFill>
                <a:latin typeface="Calibri"/>
              </a:rPr>
              <a:t>from the point of view of the patient or their supporters</a:t>
            </a:r>
            <a:r>
              <a:rPr b="0" lang="en-GB" sz="2400" spc="-1" strike="noStrike">
                <a:solidFill>
                  <a:srgbClr val="ffffff"/>
                </a:solidFill>
                <a:latin typeface="Calibri"/>
              </a:rPr>
              <a:t>, as well as seeing events from your own point of view.</a:t>
            </a:r>
            <a:endParaRPr b="0" lang="en-US" sz="2400" spc="-1" strike="noStrike">
              <a:solidFill>
                <a:srgbClr val="000000"/>
              </a:solidFill>
              <a:latin typeface="Calibri"/>
            </a:endParaRPr>
          </a:p>
        </p:txBody>
      </p:sp>
      <p:sp>
        <p:nvSpPr>
          <p:cNvPr id="1497" name="Title 4"/>
          <p:cNvSpPr/>
          <p:nvPr/>
        </p:nvSpPr>
        <p:spPr>
          <a:xfrm>
            <a:off x="4726080" y="237960"/>
            <a:ext cx="4976640" cy="11430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Impact of Complaints</a:t>
            </a:r>
            <a:endParaRPr b="0" lang="en-US" sz="4400" spc="-1" strike="noStrike">
              <a:solidFill>
                <a:srgbClr val="000000"/>
              </a:solidFill>
              <a:latin typeface="Calibri"/>
            </a:endParaRPr>
          </a:p>
        </p:txBody>
      </p:sp>
      <p:sp>
        <p:nvSpPr>
          <p:cNvPr id="1499" name=""/>
          <p:cNvSpPr txBox="1"/>
          <p:nvPr/>
        </p:nvSpPr>
        <p:spPr>
          <a:xfrm>
            <a:off x="609480" y="1600200"/>
            <a:ext cx="10972800" cy="470376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It is recognised that there is a negative stigma attached to complaints, and being complained about can impact negatively on individual staff members wellbe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Being complained about can be scary and upsetting; we encourage line managers to take extra time with staff who have been named in a complaint to offer support, guidance and assistance in statement writing, if requir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Open, timeous and honest communication is key; if a complaint has been completed the formal response should be shared with the members of staff nam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Learning from a complaint should be shared across the appropriate service, as well as with an individual.</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e Complaints Department are available to discuss the process in more detail with any member of staff that would find this helpfu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TextBox 1"/>
          <p:cNvSpPr/>
          <p:nvPr/>
        </p:nvSpPr>
        <p:spPr>
          <a:xfrm>
            <a:off x="4008600" y="907920"/>
            <a:ext cx="3527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SPSO</a:t>
            </a:r>
            <a:endParaRPr b="0" lang="en-US" sz="2800" spc="-1" strike="noStrike">
              <a:solidFill>
                <a:srgbClr val="000000"/>
              </a:solidFill>
              <a:latin typeface="Calibri"/>
            </a:endParaRPr>
          </a:p>
        </p:txBody>
      </p:sp>
      <p:sp>
        <p:nvSpPr>
          <p:cNvPr id="1501" name="Rectangle 2"/>
          <p:cNvSpPr/>
          <p:nvPr/>
        </p:nvSpPr>
        <p:spPr>
          <a:xfrm>
            <a:off x="3821400" y="1432080"/>
            <a:ext cx="480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Scottish Public Services Ombudsman</a:t>
            </a:r>
            <a:endParaRPr b="0" lang="en-US" sz="2400" spc="-1" strike="noStrike">
              <a:solidFill>
                <a:srgbClr val="000000"/>
              </a:solidFill>
              <a:latin typeface="Calibri"/>
            </a:endParaRPr>
          </a:p>
        </p:txBody>
      </p:sp>
      <p:pic>
        <p:nvPicPr>
          <p:cNvPr id="1502" name="Picture 2" descr=""/>
          <p:cNvPicPr/>
          <p:nvPr/>
        </p:nvPicPr>
        <p:blipFill>
          <a:blip r:embed="rId1"/>
          <a:stretch/>
        </p:blipFill>
        <p:spPr>
          <a:xfrm>
            <a:off x="1774800" y="212760"/>
            <a:ext cx="2381400" cy="1219320"/>
          </a:xfrm>
          <a:prstGeom prst="rect">
            <a:avLst/>
          </a:prstGeom>
          <a:ln w="0">
            <a:noFill/>
          </a:ln>
        </p:spPr>
      </p:pic>
      <p:pic>
        <p:nvPicPr>
          <p:cNvPr id="1503" name="Picture 5" descr="A person smiling for the camera&#10;&#10;Description automatically generated"/>
          <p:cNvPicPr/>
          <p:nvPr/>
        </p:nvPicPr>
        <p:blipFill>
          <a:blip r:embed="rId2"/>
          <a:srcRect l="0" t="0" r="-29453" b="-23812"/>
          <a:stretch/>
        </p:blipFill>
        <p:spPr>
          <a:xfrm>
            <a:off x="1887480" y="1955880"/>
            <a:ext cx="3809880" cy="3809880"/>
          </a:xfrm>
          <a:prstGeom prst="rect">
            <a:avLst/>
          </a:prstGeom>
          <a:ln w="0">
            <a:noFill/>
          </a:ln>
        </p:spPr>
      </p:pic>
      <p:sp>
        <p:nvSpPr>
          <p:cNvPr id="1504" name="Rectangle 6"/>
          <p:cNvSpPr/>
          <p:nvPr/>
        </p:nvSpPr>
        <p:spPr>
          <a:xfrm>
            <a:off x="5527800" y="4718160"/>
            <a:ext cx="26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d21"/>
                </a:solidFill>
                <a:latin typeface="Arial"/>
              </a:rPr>
              <a:t>https://www.</a:t>
            </a:r>
            <a:r>
              <a:rPr b="1" lang="en-GB" sz="1800" spc="-1" strike="noStrike">
                <a:solidFill>
                  <a:srgbClr val="006d21"/>
                </a:solidFill>
                <a:latin typeface="Arial"/>
              </a:rPr>
              <a:t>spso</a:t>
            </a:r>
            <a:r>
              <a:rPr b="0" lang="en-GB" sz="1800" spc="-1" strike="noStrike">
                <a:solidFill>
                  <a:srgbClr val="006d21"/>
                </a:solidFill>
                <a:latin typeface="Arial"/>
              </a:rPr>
              <a:t>.org.uk</a:t>
            </a:r>
            <a:endParaRPr b="0" lang="en-US" sz="1800" spc="-1" strike="noStrike">
              <a:solidFill>
                <a:srgbClr val="000000"/>
              </a:solidFill>
              <a:latin typeface="Calibri"/>
            </a:endParaRPr>
          </a:p>
        </p:txBody>
      </p:sp>
      <p:sp>
        <p:nvSpPr>
          <p:cNvPr id="1505" name="Rectangle 7"/>
          <p:cNvSpPr/>
          <p:nvPr/>
        </p:nvSpPr>
        <p:spPr>
          <a:xfrm>
            <a:off x="5249880" y="25509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Scottish Public Services Ombudsman</a:t>
            </a:r>
            <a:r>
              <a:rPr b="0" lang="en-US" sz="1800" spc="-1" strike="noStrike">
                <a:solidFill>
                  <a:srgbClr val="ffffff"/>
                </a:solidFill>
                <a:latin typeface="Arial"/>
              </a:rPr>
              <a:t> (</a:t>
            </a:r>
            <a:r>
              <a:rPr b="1" lang="en-US" sz="1800" spc="-1" strike="noStrike">
                <a:solidFill>
                  <a:srgbClr val="ffffff"/>
                </a:solidFill>
                <a:latin typeface="Arial"/>
              </a:rPr>
              <a:t>SPSO</a:t>
            </a:r>
            <a:r>
              <a:rPr b="0" lang="en-US" sz="1800" spc="-1" strike="noStrike">
                <a:solidFill>
                  <a:srgbClr val="ffffff"/>
                </a:solidFill>
                <a:latin typeface="Arial"/>
              </a:rPr>
              <a:t>) is the organisation that handles complaints about public services in Scotland. The </a:t>
            </a:r>
            <a:r>
              <a:rPr b="0" lang="en-US" sz="1800" spc="-1" strike="noStrike" u="sng">
                <a:solidFill>
                  <a:srgbClr val="0000ff"/>
                </a:solidFill>
                <a:uFillTx/>
                <a:latin typeface="Arial"/>
                <a:hlinkClick r:id="rId3"/>
              </a:rPr>
              <a:t>Ombudsman</a:t>
            </a:r>
            <a:r>
              <a:rPr b="0" lang="en-US" sz="1800" spc="-1" strike="noStrike">
                <a:solidFill>
                  <a:srgbClr val="ffffff"/>
                </a:solidFill>
                <a:latin typeface="Arial"/>
              </a:rPr>
              <a:t> service is independent of government and with a duty to act impartially. </a:t>
            </a:r>
            <a:endParaRPr b="0" lang="en-US" sz="1800" spc="-1" strike="noStrike">
              <a:solidFill>
                <a:srgbClr val="000000"/>
              </a:solidFill>
              <a:latin typeface="Calibri"/>
            </a:endParaRPr>
          </a:p>
        </p:txBody>
      </p:sp>
      <p:sp>
        <p:nvSpPr>
          <p:cNvPr id="1506" name="Rectangle 8"/>
          <p:cNvSpPr/>
          <p:nvPr/>
        </p:nvSpPr>
        <p:spPr>
          <a:xfrm>
            <a:off x="2398320" y="5059440"/>
            <a:ext cx="21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Montserrat"/>
              </a:rPr>
              <a:t>Rosemary Agne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29T11:39:36Z</dcterms:created>
  <dc:creator>Davidson, Vivienne</dc:creator>
  <dc:description/>
  <dc:language>en-US</dc:language>
  <cp:lastModifiedBy>Murray, Janet</cp:lastModifiedBy>
  <dcterms:modified xsi:type="dcterms:W3CDTF">2022-02-15T10:10:29Z</dcterms:modified>
  <cp:revision>52</cp:revision>
  <dc:subject/>
  <dc:title>PowerPoint Presentation</dc:title>
</cp:coreProperties>
</file>