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0ACB-2ABB-474F-A6F2-4C15BF6F986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9F7F-39A4-4803-A78C-3FF0371C179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F66A-1CFA-4FDF-8537-8AA9713F578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981C8-427F-4A43-900C-83F47C42CD7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D03FF-F741-4618-B722-BA684F59A11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35A34-9594-4C80-AF09-AEF6F31C1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15C94-01BD-4931-9A4B-A38EA4AC4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06C82-E753-4F1E-B651-464F91BBB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0917C-4890-44E4-BC0D-451A32337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B461F-F6EE-4816-886F-19C82FC56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587AD-F6BA-476B-B3F6-627BADACA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01A00-CADB-46C9-9BFB-A853067B0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AA0BA-946C-4163-93F5-5604462AF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EFDD1-7525-42CA-B413-3328B5483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2D58D-6B1B-4BFF-994D-49CD02774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88F15-0BCD-45C6-8EB8-D5E575044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18A0A-0DB4-4721-B62D-69915DD4D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8A391-BCAA-42C2-8699-FFEE72BF8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3C3D7-3ED0-47C5-A4BF-C181802F5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F2241-9ED1-470B-B1CC-BE8ECEBDC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210C26-C22F-4F25-9CAA-058CE9288F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882BAF-DBF4-49D6-8ED3-4A4493BB82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73267E-2815-4EFD-BEE2-A19E5481B3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544F7D-5A9E-457E-97D4-398F74D74D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BF13A1-8165-4B45-8DFA-96AA3C85D0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DF0ED2-6524-4D1E-86EF-DA3405F32D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59E438-C77F-4B65-BFED-D86AD97B7B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D9107-BD66-4CB4-9C34-8A0E09996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DA83E1-8DEE-49C9-AED5-BEC98FEC20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00B32B-49B1-432B-8381-A74710155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8CF8C-EDBF-4CE9-ABCA-46B68D5248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33F459-0C89-4990-94E6-64301D0696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CB9F84-8E71-42D3-8609-5F2BB7E9F4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751C14-A9EC-4C4A-A9D3-F34032E691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67078F-C47B-4C1E-8F63-4C5429057F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5E617-7C48-4FDB-8ECD-73049E31D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A2E24-B1BA-4475-8B20-32C8EC95A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92FFE-C6F5-4FDA-9B39-75324A758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6A4AD-AC9B-422B-A268-9353742CC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53580-98EC-42FE-A359-6C37DDD91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9241A-E1EB-4EF6-9C42-598B03A90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3B4B-A657-4941-BDE6-9A40CBDA60C5}"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416F-62A2-4A68-8B15-9E204C5EAAA7}"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BEF9B-271B-4492-85F7-9FC32A01C884}"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10</a:t>
            </a:r>
            <a:r>
              <a:rPr b="1" lang="en-GB" sz="2800" spc="-1" strike="noStrike" baseline="30000">
                <a:solidFill>
                  <a:srgbClr val="002060"/>
                </a:solidFill>
                <a:latin typeface="Comic Sans MS"/>
              </a:rPr>
              <a:t>th</a:t>
            </a:r>
            <a:r>
              <a:rPr b="1" lang="en-GB" sz="2800" spc="-1" strike="noStrike">
                <a:solidFill>
                  <a:srgbClr val="002060"/>
                </a:solidFill>
                <a:latin typeface="Comic Sans MS"/>
              </a:rPr>
              <a:t> of Aug 2022</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urray, Janet</cp:lastModifiedBy>
  <cp:lastPrinted>2022-07-20T11:24:27Z</cp:lastPrinted>
  <dcterms:modified xsi:type="dcterms:W3CDTF">2022-08-14T20:20:30Z</dcterms:modified>
  <cp:revision>270</cp:revision>
  <dc:subject/>
  <dc:title>Slide 1</dc:title>
</cp:coreProperties>
</file>