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8" name="PlaceHolder 2"/>
          <p:cNvSpPr>
            <a:spLocks noGrp="1"/>
          </p:cNvSpPr>
          <p:nvPr>
            <p:ph type="dt" idx="10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1" name="PlaceHolder 5"/>
          <p:cNvSpPr>
            <a:spLocks noGrp="1"/>
          </p:cNvSpPr>
          <p:nvPr>
            <p:ph type="ftr" idx="1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2" name="PlaceHolder 6"/>
          <p:cNvSpPr>
            <a:spLocks noGrp="1"/>
          </p:cNvSpPr>
          <p:nvPr>
            <p:ph type="sldNum" idx="1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BE54-1E94-47F5-A036-114FC9EF3E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685800" y="1143000"/>
            <a:ext cx="5486400" cy="3086280"/>
          </a:xfrm>
          <a:prstGeom prst="rect">
            <a:avLst/>
          </a:prstGeom>
          <a:ln w="0">
            <a:noFill/>
          </a:ln>
        </p:spPr>
      </p:sp>
      <p:sp>
        <p:nvSpPr>
          <p:cNvPr id="1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9188-39C5-409E-ADD1-1EB4FBBA533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685800" y="1143000"/>
            <a:ext cx="5486400" cy="3086280"/>
          </a:xfrm>
          <a:prstGeom prst="rect">
            <a:avLst/>
          </a:prstGeom>
          <a:ln w="0">
            <a:noFill/>
          </a:ln>
        </p:spPr>
      </p:sp>
      <p:sp>
        <p:nvSpPr>
          <p:cNvPr id="1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5EFA-4280-4194-8440-59E4E052DAD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685800" y="1143000"/>
            <a:ext cx="5486400" cy="3086280"/>
          </a:xfrm>
          <a:prstGeom prst="rect">
            <a:avLst/>
          </a:prstGeom>
          <a:ln w="0">
            <a:noFill/>
          </a:ln>
        </p:spPr>
      </p:sp>
      <p:sp>
        <p:nvSpPr>
          <p:cNvPr id="1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FE91-B028-4F51-AE2F-791BFDAC811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685800" y="1143000"/>
            <a:ext cx="5486400" cy="3086280"/>
          </a:xfrm>
          <a:prstGeom prst="rect">
            <a:avLst/>
          </a:prstGeom>
          <a:ln w="0">
            <a:noFill/>
          </a:ln>
        </p:spPr>
      </p:sp>
      <p:sp>
        <p:nvSpPr>
          <p:cNvPr id="1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7F8F-1CF9-4991-948A-AC69E2BD881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685800" y="1143000"/>
            <a:ext cx="5486400" cy="3086280"/>
          </a:xfrm>
          <a:prstGeom prst="rect">
            <a:avLst/>
          </a:prstGeom>
          <a:ln w="0">
            <a:noFill/>
          </a:ln>
        </p:spPr>
      </p:sp>
      <p:sp>
        <p:nvSpPr>
          <p:cNvPr id="1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AEC1-BC53-4432-AFE7-500765C06FA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685800" y="1143000"/>
            <a:ext cx="5486400" cy="3086280"/>
          </a:xfrm>
          <a:prstGeom prst="rect">
            <a:avLst/>
          </a:prstGeom>
          <a:ln w="0">
            <a:noFill/>
          </a:ln>
        </p:spPr>
      </p:sp>
      <p:sp>
        <p:nvSpPr>
          <p:cNvPr id="1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F876-7F1C-4D58-8176-898B92F50D6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5AD3E-160D-430B-9D8C-4995235C4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DBD85-83A3-41A4-BB25-3CA7511AD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ADF85C-D227-4766-8507-C3F845D96E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92F062-F849-4711-A8DC-662655C66B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790414-1348-4169-9427-2546F35A96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93B235-B082-4E8B-A1B9-18624FD921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390E1F-546E-4591-AFB9-0E23D2273F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CB6027-DCAA-4A16-B0BF-4A8786A61E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943974-1A8A-471B-905A-4298393D0C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834B3D-B59F-4DF3-859F-A055A8DA0E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22505B-7BC9-4BA2-9BB7-BFF0DAB97B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774999-18FA-4B96-8DD0-269C6CE637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90C8F-8CA3-40A6-8835-DF481DF7B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45E0F7-D424-464B-B76B-E64054843C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073373-ADFB-47FB-A75D-2F5603A727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59EA9F-2AE3-4707-BCAC-E33A95EF13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A9A0A7-12EF-415B-B646-E27B1C3A17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455645-DFFB-4235-9731-D57CA772B8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D3AD6E-205D-4DE3-ADDD-36204DF98D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BA1856-5AD9-4400-9363-5F34EEACB6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2520DB-41CB-47ED-AB3E-C45533730A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E7BB94-6B17-4BC2-8406-3660AE55C4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1ECBC43-4655-4ED9-A288-A2B649771FC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5D6C9-725A-4957-8944-D686625D7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6F089A7-2120-4A6C-B95C-4C4B8A1E55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5FC4C9-28ED-4209-ACBB-AFD6256A747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78B20E-AAEE-4565-91D8-17442519C6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A9F27F-ECD6-4B5A-99A2-464F70643F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E8BA7A-4EE9-4BF2-AA36-54A0673BFC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75151F-408D-4C5C-A808-C2209E2D4E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49A1FE-2A7E-4A6E-AD6B-8A01CCC884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AEACB3-C83E-4C3A-BA86-015E1CAFA8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B5EAD3-A22C-4761-8ABE-CAABBB46CB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9F8CB0-3F43-44C5-B739-3539122765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D2E5E-5121-4496-9A1F-449DE8CFF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BE93EC-541E-4D02-A77B-B557CE9DEF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57ACFF7-E88F-4E6E-BF0D-AF2C6FEE88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8F4BEF-A744-461A-A7C2-83DA5FCC2C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640A472-141B-46AC-8DD2-40A3C160156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3A8112-DED8-49E8-ACC2-EFD8C2BE53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F47F41-3F1E-4D45-A3A7-DE09546AC2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6FE253-2042-4C75-AE2B-556EBF872C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9F96FC-C1A7-4555-A629-42122010DD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B5579C-3183-48EF-A0BA-8D4EB0CD70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FAF3D2-DCC8-48AA-A7AF-E91118747C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1AA15-8267-434D-950E-90B0B490C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2AEF3C-8A61-4CA3-B76D-D084C19A36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D78A06-5721-4F0B-986B-CF7E557353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948038-0FC3-4A5C-9FA6-42FDDA9432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A2F9451-5347-4E6C-B998-7901F25DE03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4B4EAA4-B4ED-4281-87A0-D72154AD85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1B4A9BC-C3B1-44D9-AA83-61728B5F596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5077602-F147-4073-8A8F-FA21B32757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AEBBC59-1731-486C-8217-9F989487FF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04BB6C-0727-446B-B55F-85211A79A1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6AA4B4-919D-4BB7-A63C-35118FA630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ABA18-D306-4906-9E1E-300A973CC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1B42A6-66E8-4164-AA79-E8D148443F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14E46F-4752-492D-81C2-686B8938107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F3848A-4D6A-4B84-9853-D0DAFFC4B2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D37805-D187-4C2E-AACE-F376476C82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1707BE3-8C7C-45A4-9B9D-378B8FA201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9D77F67-492A-4C1F-BC8C-73340C02143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8D6EE81-40BC-4E9E-807B-677244864E2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0F8158C-B648-4BC5-ADD7-F13EAD608CB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5DE1DC6-07E1-4A79-99DA-A3B68014BE7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23FC82-8861-4E7A-A0C2-9668E16840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873C4-B302-44C0-8FEC-928AA0D78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2CCA7A3-13D3-42B1-A99C-DDA645D024D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4140BF1-702E-4499-8E77-0B2397B63A5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C982FAB-41D3-44D8-A84B-ABC24779EA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E1DEFB-5A03-4103-9524-DA548C340F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7324241-5AA7-41CD-8AFE-CD890B0F48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6E6DFF-3713-47F5-9F74-54C6649E1E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E9354D5-B612-4158-A887-4776BBE98C1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4ADEB19-6B26-4AEE-83EF-70AFDB7C86C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B7C5573-E770-4253-A714-224DECFCB40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F403B1F-E5B4-4712-BD77-9078EA4386F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CA839-E022-4770-BDEE-0CB0C4DBA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4A81468-7671-43A6-84C6-D16330EFCB9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05A7A7B-6FB5-4D2E-A674-84AB4854ECD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991E1A1-9DBD-4CCD-BF00-6FDE92A7D57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BA9142D-B1EF-4C9C-955B-C0634AAAC53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A0B270D-901D-419D-890A-593A2397C40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B392A7-5A39-4A60-8E2A-AD469D7F8D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BA5EA78-0D23-4F3B-BAF8-CD156B2E95A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B1BB200-2D2E-4086-AC7C-4710EBD422A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89766D2-0412-4FAD-BCFD-F01AAA580E2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E9EF252-6F8E-46CD-8CF4-33FE9E7EA4F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63DBC-13BA-4CAD-8B16-670B1CD5B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724617D-9A80-46AE-BA15-2BAAE9C9FB1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5E0687F-F08C-4F2A-BC00-3A118425EE6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B17C7F8-D51F-49E7-A845-8AFFD794488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E7F5C0E-9651-410A-8A9C-DCC4CF46E28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049A74F-4096-48EC-BF6A-AB8A81B552B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2B02A8B-3AD8-4ECA-A399-8A57A9D8CCC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B1E8AA9-C9F4-446C-BEBB-2450BA12D65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AA2C29-F3D9-4B7C-B4C0-4C28B72F577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606E5B-0DAA-4523-83C9-6CC79AA6BB0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11E6EC8-492B-433C-935B-EF2F3E6649D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24BC9-75A5-4DDF-B15A-90400D9CB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FC5DA53-BB4D-4397-ABF5-486F9C3A5DB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FD42D12-ECD4-44A7-BD0A-66049FD6DA7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0041829-CAAB-40A1-A254-0511A465B1B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DD68F1B-7E36-4E44-A9B6-1CA3DC99280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79F962F-0F24-4735-A879-3896480DE98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3604852-2313-48AF-AB94-A2F4035D09D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3B4F41D-FF45-4519-9B86-8A0F98F8A03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4693E38-9A91-4F34-889D-81CDCA834FF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73C3F4F-A9EE-4825-960D-BB5A04E8215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661A1C0-B2A9-4D14-9F3E-0FF1DB181D9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1E321-E0B1-4BC6-B6C0-722DC59D8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66A13-FE3B-4B40-9DEB-521DFD29E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1EEA9D-3238-4391-A034-60A81D69170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69F5FC1-C98A-48E9-BC97-AC50011C604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B4A312D-7F89-46B3-97FF-103A3B76C7C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4A78142-1A47-4A03-A9E3-8F473CD64D3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A2E1927-CE58-46AC-88CD-CFE10FC13B1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75ADDE3-D776-447D-BAF4-22C4A7B6093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5799658-5748-423D-9709-091119642C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6DB2615-0CCA-4917-B8D0-5BBEF8051EB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3D7057A-8F5D-474C-9727-E65F628AB33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B71136D-1B1F-4EBB-8EFB-11CA80D6674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CFE46-36BE-493A-AF9C-518DAFC63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624677E-99C1-4343-A5C5-F9F8737BA51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9C32C8D-393B-4BE9-A98E-1F12B7C8F1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7FF67A4-E8C0-4026-AF35-A5BC62BA34D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8FAFA66-80E0-4265-93D7-107B502AFB0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21E7452-8996-4649-8937-5DF6F09CCFB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C96EC91-0BBA-4F07-BEC3-B20FC80F476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2905D4F-80D0-45FF-8DD0-40286D58652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3BF6E9D-DE1D-4C87-AE23-BAB5F4AB941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531C7B2-A2AC-49F6-99D3-FE91192A7FE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E1C80AE-A316-4876-A291-2A2222362C6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6F574-9FCA-4161-8A06-D730D0478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279DC6C-3345-4ECD-AB5B-761DDAFF2EA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7D28C6F-716A-4B3D-969C-BF414B5F137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AA380CA-F5A6-4CF6-BAB6-BAFB51A9B4E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E25345F-6ED4-4529-BB20-B0408D8E1A7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77027B2-E987-4074-A232-C0F4B4D7199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8AC7D2D-91FB-4F54-8A75-FA0CA9CC1A5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4059211-199F-4F2C-84AB-A67E17D72AE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6B564AD-85DF-495F-AE26-EC69B5745B7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C08B72A-3234-428F-B339-54212C4085E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7EFA846-7B17-48E1-934C-E0C4193B9A5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18971-8764-4602-974C-08EC3D4A0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E6F29C9-76F0-4BF2-BAC6-57B61F871B1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521496A-B1E9-4C7D-9C60-5A2CF7ED06E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7A0CA79-C7B6-4268-8BC3-D24AB6BE97B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B3710CB-CF69-44D4-B9DA-677C018899D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34D9707-BA25-484F-A7D3-EA6E7F7B365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4161F70-8F37-4D80-83D5-17D4E7F8AD6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2283886-F7AB-4BD7-817C-B13AAF7B728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ECDD47D-942C-4B50-A842-A20FB62B738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2347B99-A2BF-462D-806D-55FC1426019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67B4AE6-10C7-4852-AAF2-12315F2924E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DA014-FDD5-42C1-820F-B151E064D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47FDAA5-0A40-499A-878A-9E9DC437B3E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348C274-602A-4247-A9E0-42C3DBFE020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C6D8D7E-5F14-4C95-9546-FF1FFC059F1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C7AE606-3AC4-419B-8CDD-D4401F382D0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0440AD0-8B06-4158-A86C-6E3241CDD09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CA78863-DFE6-423F-8B45-30B2CA69243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7CDD750-28F6-478B-857C-92CC0AACC89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7D604D5-31C0-4D84-89F6-D9517B6F438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81B2444-C05E-42CC-8205-59A006C3864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73830F9-D8FB-4ACD-853E-FB5BF6F0598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E67643-3386-4DA5-9B1E-4B80D30E2A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AE87A96-D89B-439C-8DC9-206BD186861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DD2E362-20EF-415F-A00A-67269D9BF5E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574DB00-B05E-46A3-9BEB-E04A16DF9E1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3AC8933-CF1F-4C53-8E0D-CC15455B6DC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83E9A2F-2CB0-475F-8E3D-E5B8DD8FE02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FF211CB-9DEC-438B-A29D-DA128C24914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9D168F1-1AAD-41B1-B531-AB80EE1FDC2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1810A10-45D9-47EB-A4F4-CCE3AFED981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DEFF2B1-AF6C-4254-91C1-DDBDA3D6ABB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68ACC8B-58A9-471E-8E2A-DE9103F7D32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E3599E-0BB1-4923-9C57-BE91244B04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4225E80-5357-4BE7-BB7F-8471ACB1821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71299F4-FD69-42BC-B61D-01875582800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B27F689-CFC4-4414-8126-EAB195B2C76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3A1ABC5-ECA3-46AA-83B9-0E2B8773E49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2D3BD23-51AE-434B-904E-9214772DF5C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24832DE-535F-4812-8F1A-1A7F7030A41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2A48C51-9884-4B8B-8E10-020C4CDE249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9ABCBB4-C2FC-41D2-9D43-87BA1CB062F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117B3DC-969F-4A3C-B79F-B1E8ECD9CFC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D743F88-7E44-4B25-AE43-C2E9D4EDF83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03A313-2010-4DDF-8033-5EF5D761DC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07026FB-E5B6-43A1-9950-10F8CCD065C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395B136-15BF-486B-B52F-899B9A480C0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D2DBE9D-8ED4-4DD3-AE67-D1B3835C04F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CED1420-7B1D-4F72-AE73-5510EBA7FEE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9DD6F23-4C9E-4EE5-BA51-3585203A516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2FC5A70-8150-432E-82E2-67E75C49EAA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6274C93-0C2E-4B64-A3A7-FEFD0CAC467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0084E4B-D241-4A92-B693-603A3CB76C2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94238C9-0277-406E-B683-FCB6EFEF6D0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6AA5B9C-5165-4440-B675-5AEE8EF2D56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8C6A4F-89D2-4347-B581-FF08DA3498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E11D16E-1126-4C59-ADF7-013B69A0E0A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176323C-B21D-42A7-9CCB-7B2A7F715F8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95DCD0F-9EEB-40AE-80C5-3058AAD7116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381542E-F9A2-44CD-8047-687F7FCBBA3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5CB8DAE-0AFD-45A6-BBB1-B3D15A10232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FB14411-3DAB-4D48-B2D0-48E2A6C12D8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B3DD150-FFC1-461F-8DB9-2A2D8AC3DF9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EF8D909-C3D4-4632-9290-274766118ED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2227E92-7B95-4036-97FF-DBB635AFC71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ADBFC37-5BDE-4018-9EE3-832952D4BE7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4D2A75-4468-4F75-95A5-DC4C4109F5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94D5D72-0D74-4979-911D-260799228CF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BB58A96-1B67-4A4A-99CB-C91401E8811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ACFC589-EC3B-48D8-AE66-5DA82CA9A46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09106BA-AD03-43D6-B65C-F865242043C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307F827-ED19-48F0-81F5-28386407327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DD714CC-7260-4FB6-83C9-14E31A74733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26D0B4F-AB1E-4E69-A9B1-5F7A8B0884F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BC9D143-52F4-4FFD-86A2-437C4892150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FD6E935-1493-43DC-833C-42AF4BA4891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99FDE78-571A-46DB-AA8D-520EABCCD3B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28048-2AE4-4C98-8878-EA1757AE4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459B1E-BD6A-4B42-A0CF-4828E5C631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FAE348E-5403-4B7E-B171-A18F6D3F40B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4C9425D-2CD6-4E30-94FA-C1E3ABBE533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C45FEF4-ECD4-4343-B14D-27F29A5557F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8357D23-8D45-4594-9F05-168D345B57F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37B9387-C01B-46E7-8B85-BB4FE85FECC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6BFD076-42E2-4824-9270-AD775FEAA7F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16C3910-D1D9-408F-9DFE-F60586CE917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BE4AB2C-1BDC-4EAB-BB7B-331DE810562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A4A404C-7E0F-4124-8F05-F567B05BA57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3A6ADB1-52EB-4184-9A7D-7F4FFCE6736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E48FC-8EB8-47A5-A235-4CEBA72BFB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A7B89AA-C1AA-4B88-8A12-5E6BA21882A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1895B93-40B8-4C03-BA16-0F6CE4948AC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C9A6B083-2AC9-48CF-A24C-F386CA6D1A8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01C815A-2CA3-4919-A4D0-5102E7DAAD1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036F8A0-D4FC-4928-B271-F92CB93E903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E5431EE-3A10-4A68-97CF-66338E43FB6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58972FD-867A-4CBF-9948-D7E1535E8A3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A553CC1-3A4C-4BFC-AB13-27649217289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2B35594-FEEB-499E-B0DA-296E44EE743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2F29850-36C2-4832-97D5-828B3888BAC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77FC02-D39C-4C43-BB21-0AB43CD8B0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5C8B601-A2E4-4C67-AE5D-72A82869412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E691BEA-47CF-4798-8207-923116F17FE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278B3A7-9CA7-40B3-8218-D0956CA79DF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56D4C2DE-6883-4AD2-9E76-844514A799A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A5B8F19-067D-4005-9CC7-B5EE5BAD917D}"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A6F3096-784A-4FDA-BB91-E5059AA1595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9984CF0-BBD5-4103-8241-5FDA850CB72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568E605-ECE6-4F5A-B6FA-80CBC19FEF8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63F3B23-D25F-41CE-83EE-3AF792061FE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69D04D5-15D3-4DC1-970B-F99E3536B60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93277-24B4-48FC-AF96-0010C429EF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D216160-89EE-439A-9C97-5294E357FE1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FE33884-0172-4E93-94A1-9F0B1E1C23A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CD2F254-FB39-49B3-8049-D8EDDA03429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D4E968A-8E6C-440B-87F4-164B5889259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218AFA2-F625-45FF-9E60-3F2BCFF30A7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868C35B-8F4F-47CF-B997-F8B00FCDD8C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320CD83-874C-4660-9454-F914EBEDDD8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DE525E3-FBEE-4EB7-ACF4-620CE4D030F1}"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6C4E5E6-E4CC-4815-9296-6E8B181C585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F47D020-D58B-40CD-A2C7-2EE1434CD2C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F62CAA-3AE3-4413-9696-7E9F912EB9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3B32726-3D9C-4BC8-B48A-FCC364B022A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FEF154E-94E1-4DAF-ADF6-C03B890E848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C606E18-764E-40AA-81F7-AB82FB29F31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F46F4B8-15DB-41B7-B855-5667AB989A1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AC2392F-F39C-4523-B08E-2A2E6255A83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2606A06-1C67-4FBD-AF5A-FACA7275A8B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09CD616-7994-4848-A323-B4CCB06BA3D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9A6F314-26B6-4AD7-9D4E-DA66ACEE00D3}"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D84C7DC-3CFD-4CAB-8A75-508499287E68}"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C3C767A4-1744-4548-9AFC-4A44C6D8D95C}"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EB2A07-F402-4644-93B5-3C77740247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95DC0F1-76B2-4CCC-9F22-E0483542519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BEEF57D-F919-493D-A1B6-71F2EC2ECE4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2B77CBC-C1D1-4A57-9266-A4C11E2A914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1AA38AC-F866-4402-9353-F909C6F880B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AA41A6A-B46E-42FF-97CB-E7716F58B71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935F5C4-1627-48AA-8338-2DD9C5D2B14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0AA33F7-8D8A-46A5-AD49-A5A66ED433B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12D6E4B-F944-4F1D-9208-3364DA2C7C4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1A687F9-5423-4508-8551-BACC4DC49D05}"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B0BC63C8-E4FB-41F8-9EB0-5B913336A13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C33859-D12F-4D5B-9C93-03A61676BA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7EDF6814-8C0D-4F8B-BA55-FE6FA3D37750}"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D24961F1-6720-4EF8-867E-4F440E9DA082}"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0DB112E-77C5-427F-A99A-655231D061C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BDEB7DD-DEDB-4029-830D-4ED53412743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1547283-9076-45AA-A4CC-ABFBA1112D6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0BB63AB-7EFF-45D7-B176-26CCFB10518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2AF512D-5961-43BE-B4F7-8719B4FE414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AB3EB2A-3032-4205-A0BF-773F269F460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DA77499-DC13-47ED-8893-D0546000CF3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12D5918-D7F5-4CA6-93F1-14EA0CD92BE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822B79-A70E-4CE3-9B36-6F86C1CD57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5A2CD97-27F2-423E-B46B-8DB38DE4916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2361336-8BC4-4172-803B-5276DAF6254D}"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A0CA6DF2-777E-47B3-99EE-FD299D5BC8C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8E1F59E8-DAFB-410F-8363-5EBE8EF94658}"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B3A8475-386F-4198-9EBB-508354A8F9A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175D5E7-D8B3-4123-A98E-707414C81D4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6094DB7-6DAC-4DCB-B32F-FD0AE0323A0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7F97029-235C-4955-850E-FB639C48B6F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28B6ECD-38E8-4E03-8856-D55D3DE5FAD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EC634DF-4CF6-419E-ADB7-2EB5FA2A43C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493001-29A1-47E9-8AB9-2AE24A8BA9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9BDFC33-6760-4C65-9CC1-BE11FD8AAD9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7199F97-1799-4394-AE9E-56B8B4B5BC7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42A0D36-E587-401A-B93B-D965B65AF98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058C7797-646D-45E3-9752-D3FCE7F05C9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8E3529D-9067-4B80-AE1C-72163CC34F02}"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1E5C27DD-A1B0-484C-A7F6-BE1426D99DB9}"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A2BE416-3051-4DD0-A56F-91D43ABD9B5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058C5A6-4338-47F6-B5B9-F1EC9A821ED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7CA80E4-775C-47F0-BE03-A034FF3DEC2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50D1434-2EC0-4192-9CF0-F918F2A13DD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8195AF-FBBC-48E6-9EA0-9FF6D7DF0A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47C3E4C-33FE-44C9-948E-1A3431B0E85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6EFD8CB-2E94-43D8-A716-A162F9B081D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934B9B2-7177-4CCA-BB29-BC95FF90E3D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9C3B00A-3993-44A8-8A0B-5E10362D852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B87CA15-C7C6-4832-9F3F-30E04EF5482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04C6BD9B-D8D1-4100-B6BE-CA10189A1883}"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B4F3F601-4AA4-4573-83A8-E313A498B793}"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FA31181A-1516-482C-B4AE-64D48133FE3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158A078-B442-4DA3-A9DB-7CF0DFE81DA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72862D8-CBCE-408C-A291-39347335CE1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57C1C-1E06-4AAF-8FCF-421025AE6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4AEA45-3202-4D3F-A08B-8C7263A74F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D95D7B5-8250-495B-B068-6D89B510096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6CDDE8C-E13F-4128-9304-BFCE017E50D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B4C0AEF-B737-4CF9-BBC1-8FCF4E96A63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CC14CE6-C4E9-4288-869A-9B84A599917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1E9821D-0599-4B81-BA28-757470C47C2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43CFFDB-92A0-43CC-99C4-4553599651A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715D8CB-5C86-4B6A-A3B9-CC862F694FE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0120FC42-190B-4B30-95DF-10082A06C3B7}"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8E84CB27-C07E-48B5-94D7-3B6D62F2907F}"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F140D64-F200-49C4-9770-0165E2E1CB71}"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53D202-0D64-4CBE-A71C-3B2BBEA80D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F33F9DF-8433-4E96-9BA4-505665E6AC3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3B7C1B1-114A-4145-9E96-E5A967E2277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486C06A-A87E-41B8-95FA-64906B4279D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33BBA4E-13F2-4D73-89B2-00E8688432D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4B126C3-ECB1-48AD-AA67-F52DBC65B46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F2B8E46-653B-4E2E-A416-39748A4CF86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E096C5D-CD31-4089-93FC-AF54508FD1D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5A648C0-7530-434C-988C-F5B52B10FBF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AA45C5E-3A54-4B75-B753-52DCC184067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72F8A20F-8D90-4789-952E-6AB66094BDDA}"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4C0431-6871-4203-8708-27CAB7936F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6A4E5D5B-0C75-4706-AB48-A76E48D7F190}"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44779A05-89BC-462B-96F5-C83A25F6DABD}"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E5B0A17-1C7C-42B2-AEF9-8C2E732E67A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5745414-4AA6-41B2-B7E5-53BC2AA08E7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E1BEC55-AC0C-4D57-AAA2-3198FE3B455C}"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78F9D53-6298-4DB7-8D67-0B08116622E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2C66465A-2374-4ACC-8460-65198094967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EC8F26D-D1CF-4011-970E-6B29FE2F32F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DDA74F1-10C8-4E70-92C2-C4A41CA226F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21883CB-212E-4F2F-BC45-132810A3E21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9F576-C212-4085-AE7E-48FF4BF7F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F482343-892A-4C41-9C9D-F45A27FCECD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DDD60F99-8588-4C97-BF7C-E2455025204A}"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63A5D72E-7F46-4595-96C9-301898B450F4}"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5E443-CC5B-4BC6-A95F-3BDBB1CCB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F5D964-CA7F-40E1-AA1F-796476842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C0CE74-A375-4B19-887E-B3C6B61E95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9FCAFD-AC25-43D8-A513-9BCB09B405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FA702B-8B30-46DB-8A55-77AF029B8C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F05A9B-7CD2-4A8C-8B20-CEC347FF41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BB7ED-D0BF-44B1-9077-0CEDA6EA0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5587E2-97A5-4FCE-A8F4-8701C265EA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AC7D41-3F3B-49CC-A4B2-29F02C6AE4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E0EB72-4770-45CD-8CA0-BA8453EB9B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D1B555-BB3D-4FC3-8465-7E24DE74FF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E6DC8A-2DD8-4B69-B743-19EB8A1478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89610C-0FEC-42C4-8D4F-7EC26E4AAE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9E3F51-ABDD-400F-86D8-73A6A9926A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9CBD11-7883-4A1D-85A4-D706645967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2F6DE2-62A9-43C5-B03C-89E6633A1A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DDDB0A-5B98-438D-B6A9-34974E1564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678AA-1BAE-4AE6-8EE2-03D2570A7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58AD45-8950-478C-8271-76444697D4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0BBC38-5C5A-4902-8160-29EA2CF1D9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69D059-DB65-4708-BB61-2663F52000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AE0668-FFF7-432D-9A50-2046C6ADF8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3A15C7-DD03-4948-B3E9-012DDE7307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06B85A-D980-4E4E-8441-D8F5E4FC05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FA5396-1B7A-4BC9-A9DF-8E71CA42C7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2F4DEE-23EC-4DD4-BA2E-07108CB9E5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30BA6-7240-455E-A906-674384CFF9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952BE7-E30D-4EE9-B39C-D2B863DF03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896B0-75F5-4340-BCDB-6A156B57E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09E756-C0A0-43F0-ABDC-10284C0E57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98BFBB-6AD2-4621-8A33-9CADBEF458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25BF45-EF56-4368-B9EC-2B7F07EAF9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5FB4FD-CECC-4617-80CF-CB2C7F8347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661774-5E0F-4138-AE9A-566D487330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7C876B-7FBE-4976-9FBF-CCB68DF1F6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B00414-6309-414D-8E48-1C43C8DC7F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BA531F-A3C5-4A1C-B0E3-561B422346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3A890B-E6D8-4255-97F9-E5DDF99D5E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C74602-D1F6-4A8A-9AAD-2010078B0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B26CB-7A70-4BBD-A149-65AA13A72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85FE10-C29C-407D-84A0-EFE8840819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753BC7-6EB5-4797-93C6-B60589DE79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1D55FC-B2D3-4134-806C-34CA00E456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348B88-6A56-4642-944C-5F3F00B7AA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CA4598-25A6-4607-BA0F-DDD2BDB038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60763F-384C-40E9-9E4B-D109D47101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CE6CD7-5E92-4F5B-8D0A-6FE30F1DBE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281E22-A72F-4EA8-9968-52B63C776F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9B966F-EA74-4D5E-8C7C-41BA1E1153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62B246-5411-4DD1-A4F3-DFD638CC8D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16732-F205-4AC4-8521-352361F08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97EA22-857F-43B6-80A7-5AB0E91EB7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44DA8-5BA7-45A6-BF56-FFA08D3291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B4A2DD-7B15-46D1-A9C4-4AB4D44DF8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9368AA-F94D-4A08-9855-3E7144C3C8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8F6A0A-FC45-4214-A71B-0F57D23930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E89C24-82CB-4737-B164-8D3F3CE37E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7274E0-5163-4A2A-ACD7-232CBDAC1E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7066A6-65DF-444E-9409-2D52808A9D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7A3AEF-A428-4135-BBA6-085B874586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BAB126-5B11-4AE5-B875-FC065A1C6CB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3E50-2312-4570-B4BA-34A3B302609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3C43-0F4B-4775-8A4A-76F1ACB223C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2AB3-D950-47B3-ADA2-37BDFDBFE6B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AA73-017B-4B4A-97DA-1897BB54B21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95" name="PlaceHolder 4"/>
          <p:cNvSpPr>
            <a:spLocks noGrp="1"/>
          </p:cNvSpPr>
          <p:nvPr>
            <p:ph type="ftr" idx="3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64FF-5781-46D8-96AD-A7A56EEC97A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36" name="PlaceHolder 4"/>
          <p:cNvSpPr>
            <a:spLocks noGrp="1"/>
          </p:cNvSpPr>
          <p:nvPr>
            <p:ph type="ftr" idx="4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E75B-8C45-4A40-B5DD-1566A238298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77" name="PlaceHolder 4"/>
          <p:cNvSpPr>
            <a:spLocks noGrp="1"/>
          </p:cNvSpPr>
          <p:nvPr>
            <p:ph type="ftr" idx="4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5EDB-CE88-4BD1-828D-D1C944B5BE4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18" name="PlaceHolder 4"/>
          <p:cNvSpPr>
            <a:spLocks noGrp="1"/>
          </p:cNvSpPr>
          <p:nvPr>
            <p:ph type="ftr" idx="4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4D70-C3B4-4CE6-9912-8D0FD224B1D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59" name="PlaceHolder 4"/>
          <p:cNvSpPr>
            <a:spLocks noGrp="1"/>
          </p:cNvSpPr>
          <p:nvPr>
            <p:ph type="ftr" idx="5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0FAF-E61E-44B0-9169-2B07A86B370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00" name="PlaceHolder 4"/>
          <p:cNvSpPr>
            <a:spLocks noGrp="1"/>
          </p:cNvSpPr>
          <p:nvPr>
            <p:ph type="ftr" idx="5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DD28-2064-4E77-B8D3-33CD568D06D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41" name="PlaceHolder 4"/>
          <p:cNvSpPr>
            <a:spLocks noGrp="1"/>
          </p:cNvSpPr>
          <p:nvPr>
            <p:ph type="ftr" idx="5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93FF-3F1D-4B37-B31A-D9C43D76305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52F0-106A-4105-8D89-4ADD243368B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82" name="PlaceHolder 4"/>
          <p:cNvSpPr>
            <a:spLocks noGrp="1"/>
          </p:cNvSpPr>
          <p:nvPr>
            <p:ph type="ftr" idx="5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9F4E-5ACD-4E09-9A7C-66D00D0AC78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23" name="PlaceHolder 4"/>
          <p:cNvSpPr>
            <a:spLocks noGrp="1"/>
          </p:cNvSpPr>
          <p:nvPr>
            <p:ph type="ftr" idx="6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E12D-2AF7-426C-AA56-538BE2968DD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4" name="PlaceHolder 4"/>
          <p:cNvSpPr>
            <a:spLocks noGrp="1"/>
          </p:cNvSpPr>
          <p:nvPr>
            <p:ph type="ftr" idx="6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8529-B2F5-4B83-B8A0-579171E46D6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05" name="PlaceHolder 4"/>
          <p:cNvSpPr>
            <a:spLocks noGrp="1"/>
          </p:cNvSpPr>
          <p:nvPr>
            <p:ph type="ftr" idx="6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130A-76F0-45EF-A09F-BF25158BC9F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46" name="PlaceHolder 4"/>
          <p:cNvSpPr>
            <a:spLocks noGrp="1"/>
          </p:cNvSpPr>
          <p:nvPr>
            <p:ph type="ftr" idx="7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3F11-0872-4975-ACA6-85CE7540C0A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87" name="PlaceHolder 4"/>
          <p:cNvSpPr>
            <a:spLocks noGrp="1"/>
          </p:cNvSpPr>
          <p:nvPr>
            <p:ph type="ftr" idx="7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EF3D-2F63-4EDA-99B1-37322D8722F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28" name="PlaceHolder 4"/>
          <p:cNvSpPr>
            <a:spLocks noGrp="1"/>
          </p:cNvSpPr>
          <p:nvPr>
            <p:ph type="ftr" idx="7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287F-934D-418C-B595-94FA4EAC0E5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69" name="PlaceHolder 4"/>
          <p:cNvSpPr>
            <a:spLocks noGrp="1"/>
          </p:cNvSpPr>
          <p:nvPr>
            <p:ph type="ftr" idx="8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6936-8996-4CD4-9C56-3620091699C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0" name="PlaceHolder 4"/>
          <p:cNvSpPr>
            <a:spLocks noGrp="1"/>
          </p:cNvSpPr>
          <p:nvPr>
            <p:ph type="ftr" idx="8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D37F-D88E-46F2-B6F5-55F3BAD47CE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51" name="PlaceHolder 4"/>
          <p:cNvSpPr>
            <a:spLocks noGrp="1"/>
          </p:cNvSpPr>
          <p:nvPr>
            <p:ph type="ftr" idx="8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2B857-CBAC-4015-844F-BA945679F79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870E-00E6-4C06-A7A4-BEE31B12A84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92" name="PlaceHolder 4"/>
          <p:cNvSpPr>
            <a:spLocks noGrp="1"/>
          </p:cNvSpPr>
          <p:nvPr>
            <p:ph type="ftr" idx="8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8DDE-1DAF-4EDD-95A9-38B34969DA9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33" name="PlaceHolder 4"/>
          <p:cNvSpPr>
            <a:spLocks noGrp="1"/>
          </p:cNvSpPr>
          <p:nvPr>
            <p:ph type="ftr" idx="9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4ACE-DAFE-4DC6-A682-A4DFDDA0453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74" name="PlaceHolder 4"/>
          <p:cNvSpPr>
            <a:spLocks noGrp="1"/>
          </p:cNvSpPr>
          <p:nvPr>
            <p:ph type="ftr" idx="9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809A-68C3-4729-9E93-E98564ECE98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15" name="PlaceHolder 4"/>
          <p:cNvSpPr>
            <a:spLocks noGrp="1"/>
          </p:cNvSpPr>
          <p:nvPr>
            <p:ph type="ftr" idx="9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7915-DB80-42AE-B54A-2549826768C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10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41E7-219F-4F86-B1BB-0B6B4C7A2D1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97" name="PlaceHolder 4"/>
          <p:cNvSpPr>
            <a:spLocks noGrp="1"/>
          </p:cNvSpPr>
          <p:nvPr>
            <p:ph type="ftr" idx="10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716B-4CA3-49A2-95D1-13EB5D47C89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438" name="PlaceHolder 4"/>
          <p:cNvSpPr>
            <a:spLocks noGrp="1"/>
          </p:cNvSpPr>
          <p:nvPr>
            <p:ph type="ftr" idx="10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CFC7-8023-4509-A092-CA455D2A961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89F1-F873-417E-9693-15128FF507D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B884-21DB-4BE4-8E9F-4D920853765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EC09-2C1D-4285-958C-A83848C2006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0BF1-952C-4F23-B8D6-AAFB2CA9321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F1F9-DD4C-4E28-A160-445F56C6BC8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6407-7423-4F85-AFAF-FBC1442063C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s://en.wikipedia.org/wiki/Ombudsman" TargetMode="External"/><Relationship Id="rId4" Type="http://schemas.openxmlformats.org/officeDocument/2006/relationships/slideLayout" Target="../slideLayouts/slideLayout3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395280" y="1184400"/>
            <a:ext cx="11366640" cy="37353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NHSGGC </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Complaints Handling Procedure</a:t>
            </a:r>
            <a:endParaRPr b="0" lang="en-US" sz="60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7" name="TextBox 1"/>
          <p:cNvSpPr/>
          <p:nvPr/>
        </p:nvSpPr>
        <p:spPr>
          <a:xfrm>
            <a:off x="2098800" y="620640"/>
            <a:ext cx="789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ing from Complaints</a:t>
            </a:r>
            <a:r>
              <a:rPr b="0" lang="en-GB" sz="2800" spc="-1" strike="noStrike">
                <a:solidFill>
                  <a:srgbClr val="ffffff"/>
                </a:solidFill>
                <a:latin typeface="Calibri"/>
              </a:rPr>
              <a:t> </a:t>
            </a:r>
            <a:endParaRPr b="0" lang="en-US" sz="2800" spc="-1" strike="noStrike">
              <a:solidFill>
                <a:srgbClr val="000000"/>
              </a:solidFill>
              <a:latin typeface="Calibri"/>
            </a:endParaRPr>
          </a:p>
        </p:txBody>
      </p:sp>
      <p:pic>
        <p:nvPicPr>
          <p:cNvPr id="1508" name="Picture 3" descr="A close up of a piece of paper&#10;&#10;Description automatically generated"/>
          <p:cNvPicPr/>
          <p:nvPr/>
        </p:nvPicPr>
        <p:blipFill>
          <a:blip r:embed="rId1"/>
          <a:srcRect l="0" t="0" r="-1157" b="-6968"/>
          <a:stretch/>
        </p:blipFill>
        <p:spPr>
          <a:xfrm>
            <a:off x="1549440" y="2179800"/>
            <a:ext cx="8740800" cy="44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4" name="Rectangle 1"/>
          <p:cNvSpPr/>
          <p:nvPr/>
        </p:nvSpPr>
        <p:spPr>
          <a:xfrm>
            <a:off x="644400" y="2092320"/>
            <a:ext cx="1088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5" name="TextBox 2"/>
          <p:cNvSpPr/>
          <p:nvPr/>
        </p:nvSpPr>
        <p:spPr>
          <a:xfrm>
            <a:off x="653040" y="4935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The Process</a:t>
            </a:r>
            <a:endParaRPr b="0" lang="en-US" sz="3600" spc="-1" strike="noStrike">
              <a:solidFill>
                <a:srgbClr val="000000"/>
              </a:solidFill>
              <a:latin typeface="Calibri"/>
            </a:endParaRPr>
          </a:p>
        </p:txBody>
      </p:sp>
      <p:pic>
        <p:nvPicPr>
          <p:cNvPr id="1486" name="Picture 1" descr=""/>
          <p:cNvPicPr/>
          <p:nvPr/>
        </p:nvPicPr>
        <p:blipFill>
          <a:blip r:embed="rId1"/>
          <a:stretch/>
        </p:blipFill>
        <p:spPr>
          <a:xfrm>
            <a:off x="1596960" y="1319040"/>
            <a:ext cx="8489880" cy="478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7" name="TextBox 3"/>
          <p:cNvSpPr/>
          <p:nvPr/>
        </p:nvSpPr>
        <p:spPr>
          <a:xfrm>
            <a:off x="334800" y="415800"/>
            <a:ext cx="10983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tage 1</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arly resolution complaints that require little to no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 Waiting Time Complaints, Smoking &amp; Car Parkin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can be shared via:</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rbally, direct to complainant, via service</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ail, direct to complainant, via Complaints Department</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Rectangle 1" descr=""/>
          <p:cNvPicPr/>
          <p:nvPr/>
        </p:nvPicPr>
        <p:blipFill>
          <a:blip r:embed="rId1"/>
          <a:stretch/>
        </p:blipFill>
        <p:spPr>
          <a:xfrm>
            <a:off x="414360" y="682560"/>
            <a:ext cx="11539440" cy="898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9" name="TextBox 2"/>
          <p:cNvSpPr/>
          <p:nvPr/>
        </p:nvSpPr>
        <p:spPr>
          <a:xfrm>
            <a:off x="369360" y="487440"/>
            <a:ext cx="11745000" cy="557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Stage 2</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ge 2 complaints are complex and require an in-depth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concerns about clinical care, disagreement with treatment pla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complaints that have been escalated from Stag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to Stage 2 complaints are via the service Directo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olution should be reached within 20 working day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195120" y="53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
        <p:nvSpPr>
          <p:cNvPr id="1491" name="AutoShape 2"/>
          <p:cNvSpPr/>
          <p:nvPr/>
        </p:nvSpPr>
        <p:spPr>
          <a:xfrm>
            <a:off x="15876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
          <p:cNvSpPr/>
          <p:nvPr/>
        </p:nvSpPr>
        <p:spPr>
          <a:xfrm>
            <a:off x="297000" y="1258920"/>
            <a:ext cx="6780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an imperfect response to the fact that we can never turn back the clock when things have gone wrong. We just have to deal with what is, and deal with it as well as we can.</a:t>
            </a:r>
            <a:endParaRPr b="0" lang="en-US" sz="2400" spc="-1" strike="noStrike">
              <a:solidFill>
                <a:srgbClr val="000000"/>
              </a:solidFill>
              <a:latin typeface="Calibri"/>
            </a:endParaRPr>
          </a:p>
        </p:txBody>
      </p:sp>
      <p:sp>
        <p:nvSpPr>
          <p:cNvPr id="1493" name="Rectangle 8"/>
          <p:cNvSpPr/>
          <p:nvPr/>
        </p:nvSpPr>
        <p:spPr>
          <a:xfrm>
            <a:off x="297000" y="3117960"/>
            <a:ext cx="692928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partly a statement of regret, and partly an acceptance of responsibility for things that have gone wrong. A </a:t>
            </a:r>
            <a:r>
              <a:rPr b="0" i="1" lang="en-GB" sz="2400" spc="-1" strike="noStrike">
                <a:solidFill>
                  <a:srgbClr val="ffffff"/>
                </a:solidFill>
                <a:latin typeface="Calibri"/>
              </a:rPr>
              <a:t>sincere</a:t>
            </a:r>
            <a:r>
              <a:rPr b="0" lang="en-GB" sz="2400" spc="-1" strike="noStrike">
                <a:solidFill>
                  <a:srgbClr val="ffffff"/>
                </a:solidFill>
                <a:latin typeface="Calibri"/>
              </a:rPr>
              <a:t> partial apology (“I’m truly sorry that this has happened”) is a statement of sorrow or regre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400" spc="-1" strike="noStrike">
                <a:solidFill>
                  <a:srgbClr val="ffffff"/>
                </a:solidFill>
                <a:latin typeface="Calibri"/>
              </a:rPr>
              <a:t>A </a:t>
            </a:r>
            <a:r>
              <a:rPr b="0" i="1" lang="en-GB" sz="2400" spc="-1" strike="noStrike">
                <a:solidFill>
                  <a:srgbClr val="ffffff"/>
                </a:solidFill>
                <a:latin typeface="Calibri"/>
              </a:rPr>
              <a:t>full</a:t>
            </a:r>
            <a:r>
              <a:rPr b="0" lang="en-GB" sz="2400" spc="-1" strike="noStrike">
                <a:solidFill>
                  <a:srgbClr val="ffffff"/>
                </a:solidFill>
                <a:latin typeface="Calibri"/>
              </a:rPr>
              <a:t> apology, by contrast, will include an explanation of what happened and acceptance of responsibility.</a:t>
            </a:r>
            <a:endParaRPr b="0" lang="en-US" sz="2400" spc="-1" strike="noStrike">
              <a:solidFill>
                <a:srgbClr val="000000"/>
              </a:solidFill>
              <a:latin typeface="Calibri"/>
            </a:endParaRPr>
          </a:p>
        </p:txBody>
      </p:sp>
      <p:pic>
        <p:nvPicPr>
          <p:cNvPr id="1494" name="Picture 1" descr=""/>
          <p:cNvPicPr/>
          <p:nvPr/>
        </p:nvPicPr>
        <p:blipFill>
          <a:blip r:embed="rId1"/>
          <a:stretch/>
        </p:blipFill>
        <p:spPr>
          <a:xfrm>
            <a:off x="7589880" y="1027080"/>
            <a:ext cx="424980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495" name="Picture 3" descr=""/>
          <p:cNvPicPr/>
          <p:nvPr/>
        </p:nvPicPr>
        <p:blipFill>
          <a:blip r:embed="rId1"/>
          <a:stretch/>
        </p:blipFill>
        <p:spPr>
          <a:xfrm>
            <a:off x="549360" y="1590840"/>
            <a:ext cx="4728960" cy="4255920"/>
          </a:xfrm>
          <a:prstGeom prst="rect">
            <a:avLst/>
          </a:prstGeom>
          <a:ln w="0">
            <a:noFill/>
          </a:ln>
        </p:spPr>
      </p:pic>
      <p:sp>
        <p:nvSpPr>
          <p:cNvPr id="1496" name="Rectangle 3"/>
          <p:cNvSpPr/>
          <p:nvPr/>
        </p:nvSpPr>
        <p:spPr>
          <a:xfrm>
            <a:off x="5514840" y="2089080"/>
            <a:ext cx="619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im your apology at what actually happened. An apology is for a specific wrong or injury. It will miss its mark if the apologiser and the apologisee disagree about what went wro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understanding what happened </a:t>
            </a:r>
            <a:r>
              <a:rPr b="0" i="1" lang="en-GB" sz="2400" spc="-1" strike="noStrike">
                <a:solidFill>
                  <a:srgbClr val="ffffff"/>
                </a:solidFill>
                <a:latin typeface="Calibri"/>
              </a:rPr>
              <a:t>from the point of view of the patient or their supporters</a:t>
            </a:r>
            <a:r>
              <a:rPr b="0" lang="en-GB" sz="2400" spc="-1" strike="noStrike">
                <a:solidFill>
                  <a:srgbClr val="ffffff"/>
                </a:solidFill>
                <a:latin typeface="Calibri"/>
              </a:rPr>
              <a:t>, as well as seeing events from your own point of view.</a:t>
            </a:r>
            <a:endParaRPr b="0" lang="en-US" sz="2400" spc="-1" strike="noStrike">
              <a:solidFill>
                <a:srgbClr val="000000"/>
              </a:solidFill>
              <a:latin typeface="Calibri"/>
            </a:endParaRPr>
          </a:p>
        </p:txBody>
      </p:sp>
      <p:sp>
        <p:nvSpPr>
          <p:cNvPr id="1497" name="Title 4"/>
          <p:cNvSpPr/>
          <p:nvPr/>
        </p:nvSpPr>
        <p:spPr>
          <a:xfrm>
            <a:off x="4726080" y="237960"/>
            <a:ext cx="4976640" cy="11430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mpact of Complaints</a:t>
            </a:r>
            <a:endParaRPr b="0" lang="en-US" sz="4400" spc="-1" strike="noStrike">
              <a:solidFill>
                <a:srgbClr val="000000"/>
              </a:solidFill>
              <a:latin typeface="Calibri"/>
            </a:endParaRPr>
          </a:p>
        </p:txBody>
      </p:sp>
      <p:sp>
        <p:nvSpPr>
          <p:cNvPr id="1499" name=""/>
          <p:cNvSpPr txBox="1"/>
          <p:nvPr/>
        </p:nvSpPr>
        <p:spPr>
          <a:xfrm>
            <a:off x="609480" y="1600200"/>
            <a:ext cx="10972800" cy="47037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t is recognised that there is a negative stigma attached to complaints, and being complained about can impact negatively on individual staff members wellbe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eing complained about can be scary and upsetting; we encourage line managers to take extra time with staff who have been named in a complaint to offer support, guidance and assistance in statement writing, if requir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Open, timeous and honest communication is key; if a complaint has been completed the formal response should be shared with the members of staff nam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earning from a complaint should be shared across the appropriate service, as well as with an individua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Complaints Department are available to discuss the process in more detail with any member of staff that would find this helpfu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Box 1"/>
          <p:cNvSpPr/>
          <p:nvPr/>
        </p:nvSpPr>
        <p:spPr>
          <a:xfrm>
            <a:off x="4008600" y="907920"/>
            <a:ext cx="352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SPSO</a:t>
            </a:r>
            <a:endParaRPr b="0" lang="en-US" sz="2800" spc="-1" strike="noStrike">
              <a:solidFill>
                <a:srgbClr val="000000"/>
              </a:solidFill>
              <a:latin typeface="Calibri"/>
            </a:endParaRPr>
          </a:p>
        </p:txBody>
      </p:sp>
      <p:sp>
        <p:nvSpPr>
          <p:cNvPr id="1501" name="Rectangle 2"/>
          <p:cNvSpPr/>
          <p:nvPr/>
        </p:nvSpPr>
        <p:spPr>
          <a:xfrm>
            <a:off x="3821400" y="143208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cottish Public Services Ombudsman</a:t>
            </a:r>
            <a:endParaRPr b="0" lang="en-US" sz="2400" spc="-1" strike="noStrike">
              <a:solidFill>
                <a:srgbClr val="000000"/>
              </a:solidFill>
              <a:latin typeface="Calibri"/>
            </a:endParaRPr>
          </a:p>
        </p:txBody>
      </p:sp>
      <p:pic>
        <p:nvPicPr>
          <p:cNvPr id="1502" name="Picture 2" descr=""/>
          <p:cNvPicPr/>
          <p:nvPr/>
        </p:nvPicPr>
        <p:blipFill>
          <a:blip r:embed="rId1"/>
          <a:stretch/>
        </p:blipFill>
        <p:spPr>
          <a:xfrm>
            <a:off x="1774800" y="212760"/>
            <a:ext cx="2381400" cy="1219320"/>
          </a:xfrm>
          <a:prstGeom prst="rect">
            <a:avLst/>
          </a:prstGeom>
          <a:ln w="0">
            <a:noFill/>
          </a:ln>
        </p:spPr>
      </p:pic>
      <p:pic>
        <p:nvPicPr>
          <p:cNvPr id="1503" name="Picture 5" descr="A person smiling for the camera&#10;&#10;Description automatically generated"/>
          <p:cNvPicPr/>
          <p:nvPr/>
        </p:nvPicPr>
        <p:blipFill>
          <a:blip r:embed="rId2"/>
          <a:srcRect l="0" t="0" r="-29453" b="-23812"/>
          <a:stretch/>
        </p:blipFill>
        <p:spPr>
          <a:xfrm>
            <a:off x="1887480" y="1955880"/>
            <a:ext cx="3809880" cy="3809880"/>
          </a:xfrm>
          <a:prstGeom prst="rect">
            <a:avLst/>
          </a:prstGeom>
          <a:ln w="0">
            <a:noFill/>
          </a:ln>
        </p:spPr>
      </p:pic>
      <p:sp>
        <p:nvSpPr>
          <p:cNvPr id="1504" name="Rectangle 6"/>
          <p:cNvSpPr/>
          <p:nvPr/>
        </p:nvSpPr>
        <p:spPr>
          <a:xfrm>
            <a:off x="5527800" y="4718160"/>
            <a:ext cx="26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d21"/>
                </a:solidFill>
                <a:latin typeface="Arial"/>
              </a:rPr>
              <a:t>https://www.</a:t>
            </a:r>
            <a:r>
              <a:rPr b="1" lang="en-GB" sz="1800" spc="-1" strike="noStrike">
                <a:solidFill>
                  <a:srgbClr val="006d21"/>
                </a:solidFill>
                <a:latin typeface="Arial"/>
              </a:rPr>
              <a:t>spso</a:t>
            </a:r>
            <a:r>
              <a:rPr b="0" lang="en-GB" sz="1800" spc="-1" strike="noStrike">
                <a:solidFill>
                  <a:srgbClr val="006d21"/>
                </a:solidFill>
                <a:latin typeface="Arial"/>
              </a:rPr>
              <a:t>.org.uk</a:t>
            </a:r>
            <a:endParaRPr b="0" lang="en-US" sz="1800" spc="-1" strike="noStrike">
              <a:solidFill>
                <a:srgbClr val="000000"/>
              </a:solidFill>
              <a:latin typeface="Calibri"/>
            </a:endParaRPr>
          </a:p>
        </p:txBody>
      </p:sp>
      <p:sp>
        <p:nvSpPr>
          <p:cNvPr id="1505" name="Rectangle 7"/>
          <p:cNvSpPr/>
          <p:nvPr/>
        </p:nvSpPr>
        <p:spPr>
          <a:xfrm>
            <a:off x="5249880" y="25509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ttish Public Services Ombudsman</a:t>
            </a:r>
            <a:r>
              <a:rPr b="0" lang="en-US" sz="1800" spc="-1" strike="noStrike">
                <a:solidFill>
                  <a:srgbClr val="ffffff"/>
                </a:solidFill>
                <a:latin typeface="Arial"/>
              </a:rPr>
              <a:t> (</a:t>
            </a:r>
            <a:r>
              <a:rPr b="1" lang="en-US" sz="1800" spc="-1" strike="noStrike">
                <a:solidFill>
                  <a:srgbClr val="ffffff"/>
                </a:solidFill>
                <a:latin typeface="Arial"/>
              </a:rPr>
              <a:t>SPSO</a:t>
            </a:r>
            <a:r>
              <a:rPr b="0" lang="en-US" sz="1800" spc="-1" strike="noStrike">
                <a:solidFill>
                  <a:srgbClr val="ffffff"/>
                </a:solidFill>
                <a:latin typeface="Arial"/>
              </a:rPr>
              <a:t>) is the organisation that handles complaints about public services in Scotland. The </a:t>
            </a:r>
            <a:r>
              <a:rPr b="0" lang="en-US" sz="1800" spc="-1" strike="noStrike" u="sng">
                <a:solidFill>
                  <a:srgbClr val="0000ff"/>
                </a:solidFill>
                <a:uFillTx/>
                <a:latin typeface="Arial"/>
                <a:hlinkClick r:id="rId3"/>
              </a:rPr>
              <a:t>Ombudsman</a:t>
            </a:r>
            <a:r>
              <a:rPr b="0" lang="en-US" sz="1800" spc="-1" strike="noStrike">
                <a:solidFill>
                  <a:srgbClr val="ffffff"/>
                </a:solidFill>
                <a:latin typeface="Arial"/>
              </a:rPr>
              <a:t> service is independent of government and with a duty to act impartially. </a:t>
            </a:r>
            <a:endParaRPr b="0" lang="en-US" sz="1800" spc="-1" strike="noStrike">
              <a:solidFill>
                <a:srgbClr val="000000"/>
              </a:solidFill>
              <a:latin typeface="Calibri"/>
            </a:endParaRPr>
          </a:p>
        </p:txBody>
      </p:sp>
      <p:sp>
        <p:nvSpPr>
          <p:cNvPr id="1506" name="Rectangle 8"/>
          <p:cNvSpPr/>
          <p:nvPr/>
        </p:nvSpPr>
        <p:spPr>
          <a:xfrm>
            <a:off x="2398320" y="505944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rPr>
              <a:t>Rosemary Agn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9T11:39:36Z</dcterms:created>
  <dc:creator>Davidson, Vivienne</dc:creator>
  <dc:description/>
  <dc:language>en-US</dc:language>
  <cp:lastModifiedBy>Murray, Janet</cp:lastModifiedBy>
  <dcterms:modified xsi:type="dcterms:W3CDTF">2022-02-15T10:10:29Z</dcterms:modified>
  <cp:revision>52</cp:revision>
  <dc:subject/>
  <dc:title>PowerPoint Presentation</dc:title>
</cp:coreProperties>
</file>